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31555"/>
        <c:axId val="24284939"/>
      </c:barChart>
      <c:catAx>
        <c:axId val="60731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84939"/>
        <c:crosses val="autoZero"/>
        <c:auto val="1"/>
        <c:lblAlgn val="ctr"/>
        <c:lblOffset val="100"/>
        <c:noMultiLvlLbl val="0"/>
      </c:catAx>
      <c:valAx>
        <c:axId val="24284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1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313-9C36-4127-B841-7D7AC3AF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633-EE12-48FE-B2EA-F4C33A8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898-391E-47DD-8317-D74FEC1B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51B-F863-4CF5-A699-537DB42C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32A-AE6F-464B-9AF1-91C4384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F70-4DF8-414F-9B99-D973CBD3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BCA-960D-46B9-B10A-A1972A92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186-19AA-479D-BEE2-64997EA2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48D-A6BB-4136-AB83-AD7E32A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7B9-5A3A-4F98-8A03-8F2ED160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A38-43DB-45F2-8139-6DA6881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C03-B997-416B-8CC1-8644360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8202C-BDCC-47EA-B4E2-9B09DA906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