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57674"/>
        <c:axId val="52162704"/>
      </c:barChart>
      <c:catAx>
        <c:axId val="977576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62704"/>
        <c:crosses val="autoZero"/>
        <c:auto val="1"/>
        <c:lblAlgn val="ctr"/>
        <c:lblOffset val="100"/>
        <c:noMultiLvlLbl val="0"/>
      </c:catAx>
      <c:valAx>
        <c:axId val="521627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576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63DD-D17A-44EE-BD51-FF22F1EB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E862-7791-4DFD-822D-4E0BFE2E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3FDB-D386-4BAF-928A-33B0A795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723-D80A-4167-98B0-FB686B26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E488-0458-45A5-A016-9D64809D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BF75-C60D-4907-88C7-5C1E7523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4EDC-8BBF-4FE2-90BF-D6B51620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8994-5EBE-4363-9DE7-04017D8F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75B6-77C1-45D2-BD5A-C288914C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9799-A79C-45DE-919D-5FA7F9C9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03E-7144-4DBC-BBF1-8D27037D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530A-14B3-4B78-B30B-1165D57F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BD03F-C0FB-4D87-9D0E-9E56A9838A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