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F46B-7D43-4A06-80FC-1600D11F7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8D9B-43C5-43E7-A8E2-7ACCC890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C28C-D723-4CB1-A65E-462673EDA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AF21-FC14-44F0-8FD5-F317CBFB1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DD00EB-E28A-483B-A6AB-01163D2660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39119-0459-4493-8717-CF0C32CFA5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EC66C-9326-4296-B99A-3C3B319A71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A730DB-FE77-4E46-9599-2D8981FE36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1A0B7-A4EE-4E33-A8D7-89F4A3192F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7D4C16-663B-4F88-8376-15356EE0BB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2003A-A082-4C66-9874-3785535822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C526-82FD-4791-8F35-71E84330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C7C6E-914F-42B2-B290-40E894B155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72AC01-976C-45C6-BEBC-1C54DD8E15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E814C7-FA97-45AB-93BE-F5409AE79C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915481-0B94-499C-B97E-FEBA217016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CC940E-F8B8-405E-95FF-84B0A23B67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C46E-D09C-4DF8-9E08-2027E040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E911-5DDB-4356-981F-29D04CE7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ACA9-111D-45B6-948B-AF72243F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331A-3730-481E-BF89-1E19357A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3CBB-B3BE-4AD7-9F70-1F5A4372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A6C2-D141-402E-8116-5B26003A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162C-9721-4D02-A684-A542451F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E484-F407-4D4C-9FDE-F08CED0FF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3F38-4A18-49C2-BF7A-2BE51FEDC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iki.tcl.tk/3099.html" TargetMode="External"/><Relationship Id="rId2" Type="http://schemas.openxmlformats.org/officeDocument/2006/relationships/hyperlink" Target="http://wiki.tcl.tk/3099.html" TargetMode="External"/><Relationship Id="rId3" Type="http://schemas.openxmlformats.org/officeDocument/2006/relationships/hyperlink" Target="http://wiki.tcl.tk/3099.html" TargetMode="External"/><Relationship Id="rId4" Type="http://schemas.openxmlformats.org/officeDocument/2006/relationships/hyperlink" Target="http://wiki.tcl.tk/3099.html" TargetMode="External"/><Relationship Id="rId5" Type="http://schemas.openxmlformats.org/officeDocument/2006/relationships/hyperlink" Target="http://wiki.tcl.tk/3099.html" TargetMode="External"/><Relationship Id="rId6" Type="http://schemas.openxmlformats.org/officeDocument/2006/relationships/hyperlink" Target="http://wiki.tcl.tk/3099.html" TargetMode="External"/><Relationship Id="rId7" Type="http://schemas.openxmlformats.org/officeDocument/2006/relationships/hyperlink" Target="http://wiki.tcl.tk/3099.html" TargetMode="External"/><Relationship Id="rId8" Type="http://schemas.openxmlformats.org/officeDocument/2006/relationships/hyperlink" Target="http://www.tcl.tk/man/tcl8.4/" TargetMode="External"/><Relationship Id="rId9" Type="http://schemas.openxmlformats.org/officeDocument/2006/relationships/hyperlink" Target="http://www.tcl.tk/man/tcl8.4/" TargetMode="External"/><Relationship Id="rId10" Type="http://schemas.openxmlformats.org/officeDocument/2006/relationships/hyperlink" Target="http://www.tcl.tk/man/tcl8.4/" TargetMode="External"/><Relationship Id="rId11" Type="http://schemas.openxmlformats.org/officeDocument/2006/relationships/hyperlink" Target="http://www.tcl.tk/man/tcl8.4/" TargetMode="External"/><Relationship Id="rId12" Type="http://schemas.openxmlformats.org/officeDocument/2006/relationships/hyperlink" Target="http://www.tcl.tk/man/tcl8.4/" TargetMode="External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ki.tcl.tk/1611.html" TargetMode="External"/><Relationship Id="rId2" Type="http://schemas.openxmlformats.org/officeDocument/2006/relationships/hyperlink" Target="http://wiki.tcl.tk/vfs" TargetMode="External"/><Relationship Id="rId3" Type="http://schemas.openxmlformats.org/officeDocument/2006/relationships/hyperlink" Target="http://wiki.tcl.tk/vf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izes on 32-bit opera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rename |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enter | leave | enterstep | leav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array | read | write |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style trace command depre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labelframe" descr=""/>
          <p:cNvPicPr/>
          <p:nvPr/>
        </p:nvPicPr>
        <p:blipFill>
          <a:blip r:embed="rId1"/>
          <a:stretch/>
        </p:blipFill>
        <p:spPr>
          <a:xfrm>
            <a:off x="1143000" y="5257800"/>
            <a:ext cx="1393920" cy="1303200"/>
          </a:xfrm>
          <a:prstGeom prst="rect">
            <a:avLst/>
          </a:prstGeom>
          <a:ln w="0">
            <a:noFill/>
          </a:ln>
        </p:spPr>
      </p:pic>
      <p:pic>
        <p:nvPicPr>
          <p:cNvPr id="227" name="panedwindow" descr=""/>
          <p:cNvPicPr/>
          <p:nvPr/>
        </p:nvPicPr>
        <p:blipFill>
          <a:blip r:embed="rId2"/>
          <a:srcRect l="2608" t="37648" r="3123" b="13154"/>
          <a:stretch/>
        </p:blipFill>
        <p:spPr>
          <a:xfrm>
            <a:off x="6718320" y="3200400"/>
            <a:ext cx="2295360" cy="1709640"/>
          </a:xfrm>
          <a:prstGeom prst="rect">
            <a:avLst/>
          </a:prstGeom>
          <a:ln w="0">
            <a:noFill/>
          </a:ln>
        </p:spPr>
      </p:pic>
      <p:pic>
        <p:nvPicPr>
          <p:cNvPr id="228" name="spinbox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9493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windowing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distinguish between Xlib and native A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hange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ki Changes in Tcl/Tk 8.4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wik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/3099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cal mode wiki on the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 Change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0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1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2"/>
              </a:rPr>
              <a:t>/man/tcl8.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tails in BoF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Boo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941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ing soon to a store nea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lch 4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lynt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bookcover" descr=""/>
          <p:cNvPicPr/>
          <p:nvPr/>
        </p:nvPicPr>
        <p:blipFill>
          <a:blip r:embed="rId1"/>
          <a:stretch/>
        </p:blipFill>
        <p:spPr>
          <a:xfrm>
            <a:off x="3627360" y="990720"/>
            <a:ext cx="4830840" cy="52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Tcl and Tclkit b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ver 2 years in the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iki.tcl.tk/161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http://wiki.tcl.tk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v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fication of the C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incompatible – with a compatability 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2-09-11T16:00:26Z</dcterms:modified>
  <cp:revision>416</cp:revision>
  <dc:subject/>
  <dc:title>8.4 Tcl Overview</dc:title>
</cp:coreProperties>
</file>