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6856560" cy="9294840"/>
          </a:xfrm>
          <a:custGeom>
            <a:avLst/>
            <a:gdLst>
              <a:gd name="textAreaLeft" fmla="*/ 360 w 6856560"/>
              <a:gd name="textAreaRight" fmla="*/ 6856200 w 685656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81">
                <a:moveTo>
                  <a:pt x="5" y="0"/>
                </a:moveTo>
                <a:arcTo wR="5" hR="5" stAng="16200000" swAng="-5400000"/>
                <a:lnTo>
                  <a:pt x="0" y="29276"/>
                </a:lnTo>
                <a:arcTo wR="5" hR="5" stAng="10800000" swAng="-5400000"/>
                <a:lnTo>
                  <a:pt x="21595" y="292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6854760" cy="9293400"/>
          </a:xfrm>
          <a:custGeom>
            <a:avLst/>
            <a:gdLst>
              <a:gd name="textAreaLeft" fmla="*/ 360 w 6854760"/>
              <a:gd name="textAreaRight" fmla="*/ 6854400 w 6854760"/>
              <a:gd name="textAreaTop" fmla="*/ 360 h 9293400"/>
              <a:gd name="textAreaBottom" fmla="*/ 9293040 h 9293400"/>
            </a:gdLst>
            <a:ahLst/>
            <a:rect l="textAreaLeft" t="textAreaTop" r="textAreaRight" b="textAreaBottom"/>
            <a:pathLst>
              <a:path w="21600" h="29284">
                <a:moveTo>
                  <a:pt x="5" y="0"/>
                </a:moveTo>
                <a:arcTo wR="5" hR="5" stAng="16200000" swAng="-5400000"/>
                <a:lnTo>
                  <a:pt x="0" y="29279"/>
                </a:lnTo>
                <a:arcTo wR="5" hR="5" stAng="10800000" swAng="-5400000"/>
                <a:lnTo>
                  <a:pt x="21595" y="2928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03400" y="696960"/>
            <a:ext cx="4647960" cy="348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ldImg"/>
          </p:nvPr>
        </p:nvSpPr>
        <p:spPr>
          <a:xfrm>
            <a:off x="-360" y="-8703000"/>
            <a:ext cx="360" cy="188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rt tree custom widget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104840" y="69696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914040" y="4416120"/>
            <a:ext cx="50166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680" y="6078600"/>
            <a:ext cx="9131400" cy="7761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5240" y="6400800"/>
            <a:ext cx="5101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Tcl Conference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236760" y="6253200"/>
            <a:ext cx="4145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4FB4903-114E-4781-8368-1D95CAE72DB9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7754760" cy="544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152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520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53080" indent="-2530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0880" indent="-20880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3192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IN" sz="3200" spc="-1" strike="noStrike">
                <a:solidFill>
                  <a:srgbClr val="ffffff"/>
                </a:solidFill>
                <a:latin typeface="Arial Black"/>
              </a:rPr>
              <a:t>Tcl/Tk guidelines for improved automated regressions - a case-study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1840" y="4335480"/>
            <a:ext cx="3654360" cy="24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Saurabh Khai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Madhur Bhat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Tushar Gup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2057400"/>
            <a:ext cx="650232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17'th Annual Tcl/Tk Conference (Tcl'201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October 11 - October 15, 2010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18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2971440"/>
            <a:ext cx="861084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# Verification Point 'newfile'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ompare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 [property get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[findObject ":vsim.dockbar.tbf0.standard.tb.button_0"] state] "normal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compare [property get [findObject ":vsim.dockbar.tbf0.standard.tb.button_0"] image] "__new_icon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319040"/>
            <a:ext cx="9144000" cy="15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Checks Inserted in the code to verify the state of th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test compare [property get $widget $prop_name] $expected_value</a:t>
            </a:r>
            <a:r>
              <a:rPr b="0" lang="en-I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4724280"/>
            <a:ext cx="350496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hecking the state and the ima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f the button widget using compare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24480" y="3124080"/>
            <a:ext cx="198144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ame of the V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352320" y="3352680"/>
            <a:ext cx="29718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71240" y="51055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3716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175248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2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80880" y="4114800"/>
            <a:ext cx="8458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 ":vsim.#mBar.#mBar#file" "New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" "New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8520" y="380880"/>
            <a:ext cx="8745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5000"/>
              </a:lnSpc>
              <a:spcAft>
                <a:spcPts val="1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3333cc"/>
                </a:solidFill>
                <a:latin typeface="Arial"/>
              </a:rPr>
              <a:t>Synchronization poin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1295280"/>
            <a:ext cx="899172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What is 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Types of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me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waitForObjectItem $objectname  $item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5880" y="4495680"/>
            <a:ext cx="304812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ynchronization Points inser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efore every cli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47920" y="4724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81080" y="4724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1447560" y="472428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447920" y="41907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Use of global procedure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76680" y="106668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oc main {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nooze 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sourcing all global script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ean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analyz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os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– clean_all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ean_al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- 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global procedure – 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562720" y="2743200"/>
            <a:ext cx="2590560" cy="6094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ourcing global 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10080" y="4191120"/>
            <a:ext cx="25909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all to different proced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1371600" y="4191120"/>
            <a:ext cx="4038480" cy="3045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142640" y="4724280"/>
            <a:ext cx="426708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1447920" y="4952880"/>
            <a:ext cx="3962160" cy="38124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86200" y="251460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114800" y="3048120"/>
            <a:ext cx="144792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7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Limitations and Workaround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g and Dro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 of black box GUI testing tools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st using conventional analog tool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upport for custom widgets from automation too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vas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creenshot Verification Point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xtual dump of graphical display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Screenshot 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467840" cy="45147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057400" y="3124080"/>
            <a:ext cx="9144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33920" y="2590920"/>
            <a:ext cx="914400" cy="3045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29200" y="3200400"/>
            <a:ext cx="76212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4724280"/>
            <a:ext cx="182880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nvas widg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ierarchical 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03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2057400"/>
            <a:ext cx="152388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creenshot ma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86400" y="2362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91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57400" y="23623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90920" y="2362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8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Resul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ed and stable GUI testing regress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d testing tim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test coverag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product Quality – Customer reported bugs reduced significantly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447920" y="4191120"/>
            <a:ext cx="2238120" cy="19717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952880" y="4191120"/>
            <a:ext cx="2210040" cy="20574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657600" y="5334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5520" y="251424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hank You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1676520"/>
            <a:ext cx="8912160" cy="16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101520"/>
            <a:ext cx="8759880" cy="101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Agenda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Need for automated GUI regression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utomated GUI testing tool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Guidelines for develop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esting strategies for QA engine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imitations and workarounds 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8160" y="-36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Need for Automated GUI regression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wing complexity of GU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ssive permutation and combinations of sequence of steps to test manually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 out “human error” in test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 time-to-marke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iminates repeated testing effor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Automated GUI testing tool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alog tools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-ordinate based tool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ols –&gt; T-Plan Robot, AutoI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mitations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bject based tool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ks on internal objects/widgets of the GU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ols -&gt;Squish,  TKRepl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Guidelines for developer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 use of internal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array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environment variabl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algorithmic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 representation of graphical displa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Internal functions and global array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reateAnnotationFileW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AIn[1:0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B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w1[9:6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Y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Z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selection set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aveAnnotationFil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990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reate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657240" y="1371600"/>
            <a:ext cx="297180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29400" y="2133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dd net to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4038480"/>
            <a:ext cx="2286000" cy="8384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ave annotation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53080" y="3200400"/>
            <a:ext cx="2286000" cy="6858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ll to global arr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200040" y="2666880"/>
            <a:ext cx="3429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209320" y="3657600"/>
            <a:ext cx="43434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048120" y="4495680"/>
            <a:ext cx="350496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200400" y="243792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209680" y="342864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745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algorithmic functions and environment variable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 findpath {fullpath separator tree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sanity check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tree search algorith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tree update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code for regression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[info exists ::env(MED_REGRESSIONS)]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$found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not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ho $msg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3733920"/>
            <a:ext cx="304920" cy="2286000"/>
          </a:xfrm>
          <a:custGeom>
            <a:avLst/>
            <a:gdLst>
              <a:gd name="textAreaLeft" fmla="*/ 0 w 304920"/>
              <a:gd name="textAreaRight" fmla="*/ 110160 w 3049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267080"/>
            <a:ext cx="2590920" cy="10670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is part of code is enab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nder an environment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419360" y="47242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1219320"/>
            <a:ext cx="2819520" cy="76176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lgorithmic function call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indpath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o perform complex GUI op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218960" y="1676520"/>
            <a:ext cx="464796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219320" y="144756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867280" y="2133720"/>
            <a:ext cx="28195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function performs 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ike tree search and tree 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905120" y="2514600"/>
            <a:ext cx="39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xt representation of Graphical display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3733920" cy="4800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838760" y="1143000"/>
            <a:ext cx="4076640" cy="4876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962520" y="3429000"/>
            <a:ext cx="91440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sting strategies for QA engineer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fic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chroniz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procedur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line debu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Enable debugging screenshot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urabh</dc:creator>
  <dc:description/>
  <dc:language>en-US</dc:language>
  <cp:lastModifiedBy>Sk</cp:lastModifiedBy>
  <dcterms:modified xsi:type="dcterms:W3CDTF">2010-10-15T13:10:09Z</dcterms:modified>
  <cp:revision>638</cp:revision>
  <dc:subject/>
  <dc:title>Tcl'20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