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3AD73-0B9D-47F5-A6AD-1D44C32E1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B8B8E-CB6A-4769-8510-D5DE8E700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B820-DCD3-4391-A8D1-D353980BE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DB00-3346-4CF5-BFD3-EB1134FBA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F971-C1FB-4A96-A029-6D90DC3077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A9437-1B02-434C-BEC3-2DDDB2196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9E654-A90A-403E-A923-458E69E40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4060-43F0-4137-8356-263D85D5B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73ED-8755-4EF1-BE1B-FEC8380BD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EC77-E92D-447F-8AB6-317976FEE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4E1D-5906-4006-91C2-5D32C77B5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4592-36B8-48C4-A5D8-46B6A630F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7CC98-4206-4598-AE2B-CE9EE510D64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mortgage-site-tools.com/products/" TargetMode="External"/><Relationship Id="rId2" Type="http://schemas.openxmlformats.org/officeDocument/2006/relationships/hyperlink" Target="http://www.mortgage-site-tools.com/products/" TargetMode="External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6f0f"/>
                </a:solidFill>
                <a:latin typeface="Arial"/>
              </a:rPr>
              <a:t>Online mortgage calcula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39951"/>
                </a:solidFill>
                <a:latin typeface="Arial"/>
              </a:rPr>
              <a:t>by mortgage-site-tools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5280" y="59421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5375"/>
                </a:solidFill>
                <a:latin typeface="Arial"/>
                <a:ea typeface="Arial"/>
              </a:rPr>
              <a:t>© Mortgage-site-tools.com ’04-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f0f"/>
                </a:solidFill>
                <a:latin typeface="Arial"/>
              </a:rPr>
              <a:t>Easy real-estate math calcul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370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9951"/>
                </a:solidFill>
                <a:latin typeface="Arial"/>
              </a:rPr>
              <a:t>Amortization tables comes with each calc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9951"/>
                </a:solidFill>
                <a:latin typeface="Arial"/>
              </a:rPr>
              <a:t>Wide range of mortgage calculation scenar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9951"/>
                </a:solidFill>
                <a:latin typeface="Arial"/>
              </a:rPr>
              <a:t>Adjustable interest compounding and payment perio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9951"/>
                </a:solidFill>
                <a:latin typeface="Arial"/>
              </a:rPr>
              <a:t>Initial values customization for any real-estate 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39951"/>
                </a:solidFill>
                <a:latin typeface="Arial"/>
              </a:rPr>
              <a:t>Simple and easy user 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4643280" y="1700280"/>
            <a:ext cx="4038840" cy="302904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95280" y="59421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5375"/>
                </a:solidFill>
                <a:latin typeface="Arial"/>
                <a:ea typeface="Arial"/>
              </a:rPr>
              <a:t>© Mortgage-site-tools.com ’04-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f0f"/>
                </a:solidFill>
                <a:latin typeface="Arial"/>
              </a:rPr>
              <a:t>Simple integ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06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9951"/>
                </a:solidFill>
                <a:latin typeface="Arial"/>
              </a:rPr>
              <a:t>Installation takes only min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9951"/>
                </a:solidFill>
                <a:latin typeface="Arial"/>
              </a:rPr>
              <a:t>Full Cascade Style Sheet (CSS)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9951"/>
                </a:solidFill>
                <a:latin typeface="Arial"/>
              </a:rPr>
              <a:t>Software is template driven and visual style can be completely remode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9951"/>
                </a:solidFill>
                <a:latin typeface="Arial"/>
              </a:rPr>
              <a:t>Multi-language enabled (at this time only English language pack comes with distributiv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53995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9951"/>
                </a:solidFill>
                <a:latin typeface="Arial"/>
              </a:rPr>
              <a:t>Customizable currency symbol and numerical delimi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59421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5375"/>
                </a:solidFill>
                <a:latin typeface="Arial"/>
                <a:ea typeface="Arial"/>
              </a:rPr>
              <a:t>© Mortgage-site-tools.com ’04-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882720" y="1600200"/>
            <a:ext cx="3186000" cy="39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f0f"/>
                </a:solidFill>
                <a:latin typeface="Arial"/>
              </a:rPr>
              <a:t>Want more detail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468360" y="141300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9951"/>
                </a:solidFill>
                <a:latin typeface="Arial"/>
              </a:rPr>
              <a:t>Visit online demonstration pag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198880" y="2060640"/>
            <a:ext cx="4762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mortgage-site-tools.com/products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68360" y="2637000"/>
            <a:ext cx="822960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9951"/>
                </a:solidFill>
                <a:latin typeface="Arial"/>
              </a:rPr>
              <a:t>Place an ord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343240" y="3357720"/>
            <a:ext cx="441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5375"/>
                </a:solidFill>
                <a:latin typeface="Arial"/>
              </a:rPr>
              <a:t>http://www.mortgage-site-tools.com/order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50920" y="6040440"/>
            <a:ext cx="8642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95280" y="5942160"/>
            <a:ext cx="842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d5375"/>
                </a:solidFill>
                <a:latin typeface="Arial"/>
                <a:ea typeface="Arial"/>
              </a:rPr>
              <a:t>© Mortgage-site-tools.com ’04-0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0T20:43:29Z</dcterms:created>
  <dc:creator/>
  <dc:description/>
  <dc:language>en-US</dc:language>
  <cp:lastModifiedBy>Ivan</cp:lastModifiedBy>
  <dcterms:modified xsi:type="dcterms:W3CDTF">2005-04-20T22:56:31Z</dcterms:modified>
  <cp:revision>4</cp:revision>
  <dc:subject/>
  <dc:title>Online mortgage calculators presentation</dc:title>
</cp:coreProperties>
</file>