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94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48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94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48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mail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92f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Arial"/>
              </a:rPr>
              <a:t>Slide </a:t>
            </a:r>
            <a:fld id="{9AA7DB51-D210-41FA-9D98-3CBC20BD4B81}" type="slidenum">
              <a:rPr b="0" lang="en-GB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705720"/>
            <a:ext cx="487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68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609480"/>
            <a:ext cx="7086600" cy="1371600"/>
          </a:xfrm>
          <a:prstGeom prst="rect">
            <a:avLst/>
          </a:prstGeom>
          <a:gradFill rotWithShape="0">
            <a:gsLst>
              <a:gs pos="0">
                <a:srgbClr val="280065"/>
              </a:gs>
              <a:gs pos="100000">
                <a:srgbClr val="66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6933960" cy="121932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3300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-mail” Title Slide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ullet Lis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ar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Line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Pie Char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51360" y="1981080"/>
            <a:ext cx="0" cy="1752840"/>
          </a:xfrm>
          <a:prstGeom prst="line">
            <a:avLst/>
          </a:prstGeom>
          <a:ln w="38160">
            <a:solidFill>
              <a:srgbClr val="c392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3048120"/>
            <a:ext cx="556236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c39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41600" y="1537560"/>
            <a:ext cx="281952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442680"/>
            <a:ext cx="198108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org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2-03T14:08:09Z</dcterms:modified>
  <cp:revision>41</cp:revision>
  <dc:subject/>
  <dc:title>Free Sample Awesome PowerPoint Background Template</dc:title>
</cp:coreProperties>
</file>