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041D-922B-413E-B40B-0BC43FD8F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3D3A-1544-42D4-9393-01E4F0EFC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8DD1-B020-497C-9F28-A02F79DB9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571F-45EA-44C9-A804-04D749191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E495-5B63-4300-BC9D-217150AF7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D45B-B668-40B6-8904-DA20819BB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7EAD-3461-4DBB-B529-C20897FC2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5273-D277-4A5C-A3AD-ED3B5E115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E945-9426-4C3D-9A6B-AFBF9B723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B583-5977-42DD-ABD7-4D2369EE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CA1D-2B5D-4083-BA36-03253619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892D-4E2A-4745-BFE3-A376DD70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81A61-3ABF-48ED-9303-5A6835118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crus</cp:lastModifiedBy>
  <dcterms:modified xsi:type="dcterms:W3CDTF">2006-02-15T18:39:04Z</dcterms:modified>
  <cp:revision>5</cp:revision>
  <dc:subject/>
  <dc:title>Слайд 1</dc:title>
</cp:coreProperties>
</file>