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DA76-0BCE-4F30-9CDF-73EBEEEC8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A709-8D58-4CD3-A4F2-3F77BBA6B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BCA406-43ED-42BE-884D-FC7F94DAB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30B293-168D-4090-A31C-7D3D07FF3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2EEE8B-64AE-4FBD-B33F-81BB2A224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B49DA2-D616-43E6-A48B-159EBD792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D430A6-FAE6-4683-9CFD-01F62DFF7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BF9AB9-76B9-480C-965D-D2BE3B589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7C404A-A0E5-4E4B-BA93-8EAAE4336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26AD70-1E8D-4DF1-A0A2-133B80A2D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422FCB-4DDF-456F-98C4-0DF515787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12537E0-87D3-4023-B860-BAA8D851C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9D74-9611-4BFF-83F2-9C7A71D5A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1EC8E5B-51BE-4E85-A0CC-8B79FCD97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8B586D3-00DF-44F8-ABE9-64BDC8368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E0BD4E9-5B80-4D5E-888F-2DF3FAE84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ED90A6E-595C-46A7-8B0F-F34B217E3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B990CB7-2BA6-4396-801C-CACE0B8F9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3F23F3D-7DCA-46E7-B1E4-F9DB640A6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A3F6BEB-FA93-4B40-8F17-474C6DFD5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89F7793-DDF4-4C84-925E-826F80A31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FB4CD22-147B-4421-9724-ADA39CE86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BCAF45A-86BD-46D1-99C2-D911A95F5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DC66-3355-4616-AAC0-4E4BFD056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24721A5-3EB0-4464-9BC0-295AEBFC0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5C29BD-9118-494F-A832-25F8CA6CB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0FF468-7AE5-4CE1-A6D0-3F100D91A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D77928-3F78-4ED1-8704-48FBB2598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E03C12-23C1-41CB-8A12-FACC00247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99DC8B-9530-424B-8534-594D65DA9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9F89F8-0373-4656-A3D1-5F6F185AC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338262-928C-4194-9221-AC2A2A4AC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3B5CF4-F50A-4893-80A3-60E1583D7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915330-1D1D-435C-A89C-3FCE60129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AA538-1877-4B87-8D4C-A2FB401EE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314D29-577A-4804-BBB2-A5F1E2281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D1C648-14B6-4283-8F69-B21D4543A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43A751-A02D-46CF-9487-51A498929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17BA7B-7FDB-4E08-85AB-200192124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63E994-612C-4C32-AAB9-C51595E4E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D470A5-8320-4BDA-ABE2-580F725E2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BB9C7A-C505-4820-82B6-2DB830FEA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18F195-750A-4512-8FB6-83E93015E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635CFD-14B7-4A45-A757-C047DEB86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5DB9E7-9282-41CF-8576-47DAD2DEC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D59DE-7E0F-4E66-800E-97C529401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008E3D-C378-4A36-AD8F-EFD142B37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403E6D-1002-4397-A21D-31974B9BA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323E54-02D1-471E-BD60-AC668286A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137EA3-03E5-4ED5-B220-E5C06D1F3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61FF0F-1482-4C60-8066-F89E44569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A2473-79E2-41EF-8275-89861B020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16927-DD99-4B36-BB89-C6321CFD4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20A9B-7EA4-48B5-B6CD-59B26D44B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23DE0-A439-4383-873E-05834BED9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FCCCA-9FD5-49FC-9C42-CDF2023A0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13E2-1EBC-4FD3-A8A8-983CD65F6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407EF-03E9-40C4-B1B1-35937B7AA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6DDE6-CE62-4FB5-BA15-C788CF4B9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14B50-C882-4580-8BE5-E1B7D883F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D7F8A-96E2-40C1-9C9F-C960E7BA2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AFAB9-58EF-41F2-A1E1-548AAEF22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98A72A-A9A7-434B-AD2C-D51226B9A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920F56-C002-4839-9F25-22E64A36D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F9DF3D-71F8-4CB2-BE9A-FF11EF2AC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35D108-7A82-4E42-A949-3BD42F619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36513A-404F-4D1C-AA41-3EA582CF6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2257-BE79-4F52-8B11-2FE44528E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700C9D-08FA-4AF8-A72D-A78C9248F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822F5B-114C-43DC-8B22-48C74A813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282EA4-A473-4D47-A38A-1BB9B0D7F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507603-FA1C-464D-8650-C7C845E8C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F684BC-7AEC-4EBF-A691-52AA4B8C9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AE691B-74EC-4935-A864-4923A70C4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4ED835-E0B8-434F-8E42-EED9F5AF6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43A82F-9A46-45FB-B655-67BD09639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59750D-C3F8-4CC8-B7D5-87FA60D17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11F44B-219A-4F61-86D0-7C5AA192D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59A2-646A-4F3F-8E97-9E9A20E74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CCB77D-B2E7-439B-9A73-2E7BC0206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E316F9-1C7B-4282-ADA5-3418746BA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75F381-25F6-467C-99EE-52B9B442A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01B3C7-9191-4BB8-AB02-8BC37A5B9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333BC7-C8B7-4094-BACD-B8D02CE86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354F88-4994-4B93-B3C4-743A4D385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A57C6B-AFEC-4F60-98BF-12C935C2C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A028EF-C275-45F6-ACD4-C01B94BEC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B77C60-8FD8-4018-8EEF-6F325321D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806D6A-553A-4E75-AFB1-4450C1C56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573E-1590-42F6-ACDC-75C3EEE5F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CFAA8D-E05F-4B8C-AEBB-7BA511DA0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CB625E-A500-4378-9E0D-CD6BF3DD0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99A82F-3556-4C19-B022-EE11E5EA5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F8E2B3-13C5-4559-BC4B-830E9E098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3DC749-6813-4EBD-8445-F9BBA37E0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EF54EE-863B-4DA0-AB3D-4FEFB1EA4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37648D-C38D-4453-95B1-89AD13EA8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761791-CD58-4AE1-A23B-875B7D433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57574B6-F54E-42FF-9B45-39B4965FB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C847EF-9CDB-4250-AB80-3FFC6A897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9BF1-0C3C-4C82-9B16-F0FED9EAF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3719BF-C687-4761-AFA6-5C01E2BF2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304B34-E454-480F-A370-C772A0E96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122806-8C72-4824-B72D-AA048F957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2E3FE1-9949-46AC-9AF3-E479463E5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93EF59-2601-4CD8-A1FB-BFBA2DEAF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5C2879-EBD1-47EB-9C89-4C693B260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41CB1D-5486-4AB1-AA6D-96C52CF58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9E53F6-AD45-4FB0-B5B0-DD12C33CA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AE7C0B-935B-4A64-B3DF-66C2F29B4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F029DC-7152-40A8-99BA-BC1BD5269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B31B-58E5-47B9-A7B5-B0DDEFE91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97BF85-7B5E-4700-94D5-E45B4E5DA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0EC8C7-0856-4DDE-8C9B-A40A6529E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8AE109-ED54-46CA-9E64-3D1510E0F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976F07-D90F-4292-9FCA-6631A8C82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B1F6E1-E100-40AE-9D2A-670C122DE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42E090-CFC5-4AD3-A77C-4A05116CE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BA6776-E4AF-419B-A110-85771973F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89E0F2-F2DC-49F6-8C0B-F0F5912E2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3E3313-CE7F-4C6E-AE1E-825CBA924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AEC8E5-8816-4B49-885F-F78E857F8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F13B-8E57-4CAB-A892-0DEA7E54D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567E15-44F2-4853-9E97-99654CD30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B28542-F75B-4344-9C2D-C280816A9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DB3296-FC20-4EC9-92C6-67CED45D1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9AD3EB-78EF-4FF7-9DD0-9D04721FC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DEC5D3-933A-4BD4-991E-39F1F5310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60E77E-50A9-4B4A-A931-F65142513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C60AD1-D08E-4C77-BE0A-DA5ADF875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7ADE5B-D7DB-41F2-AF39-438A51E89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57E621-28F5-4F45-A307-BDB78D639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B7D221-1A31-4329-AAFB-6BD4E27D1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918D-180D-4381-A709-7C96E49E7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985608-9C51-4881-9865-383DB9B33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BEC254-F210-4E9E-B44C-39ED21E74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410579-0DDC-4B2E-A4B8-EA6AF6756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039B64-6FE9-4AD9-B4A1-B416BDBEA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D72171-118C-4EDF-A26E-C9F00DDD5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80C98A-8DCA-47F3-AFF7-C97C24FF4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1E1E15-02C6-46C4-A4BC-7987E4BA1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26C5A3-F93F-4F0E-AD84-F8570ABA5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A5961D-9CCE-48F4-B5C5-8D7C0C99A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C0B96F-AFD6-4CBE-B98D-94F356408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E0564-EF7C-418F-9B41-044824D0F2A5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85A69-3D64-44F1-968C-D219CAB0E09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C2DB5-74D3-4469-B8EE-C606A6FA6977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D39C0-A966-4F0E-B3A7-2E3BC03B9E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7FAEB-8800-4571-9F7B-465142EE9528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42A6D-3BC3-42DE-89B0-8BD36A53213E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AF0EA-0879-4A59-83FC-2545DFB481EF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1C0F4-5F0F-4EE5-AA23-5B1AE72C7E2D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1D37A-98FA-4C94-9BF8-F6515F3C54DA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17F99-2106-4292-AFC9-C57E1CBA892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80B3D-6726-484A-9ACB-637AC3665AFF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BEE65-2332-4E92-8A5F-22C0D35F78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F9187-4344-48F9-B7EB-EB0543F71A95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F0A92-90AC-453C-BAC6-774E426A7B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7C75F-AD32-4ECF-B398-5624CE926438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D7F31-8DE2-49EA-9854-C4B23C86F21D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FAB3B-CC79-42A2-976E-A3A2E5E20243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FD608-6BAB-4192-86D1-F976654B48E7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0A276-4585-4A3F-B319-68314A814CEF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E414E-9241-4CC7-AF16-65859E1D314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22A1B-A90C-4B37-862E-844A86F5FD83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8B0F6-AD0F-4328-8B60-74C24559EB85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4608A-FAFA-48F9-BDFD-0678D3C3975F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BB26F-34FA-489B-84A4-15A49C8E52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836B-98C2-47BE-B6B6-4217DBF55BE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A2270A-9DDE-4842-82B7-EDEA66FE5CAB}" type="datetime1">
              <a:rPr lang="en-US"/>
              <a:t>07/31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5A6809-F89D-45A4-BDC7-48EB5F0E37A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D5F6DC07-BE26-4B6F-9A15-EE40C9079F30}" type="datetime1">
              <a:rPr lang="en-US"/>
              <a:t>07/31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4" dur="8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" dur="8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9" dur="2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plus(out)" transition="out">
                                      <p:cBhvr additive="repl">
                                        <p:cTn id="123" dur="2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strips(upRight)" transition="out">
                                      <p:cBhvr additive="repl">
                                        <p:cTn id="127" dur="5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1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8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A84E76-62AC-451B-B796-D1948CB7800F}" type="slidenum">
              <a:t>3</a:t>
            </a:fld>
          </a:p>
        </p:txBody>
      </p:sp>
    </p:spTree>
  </p:cSld>
  <p:transition>
    <p:comb dir="horz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3000"/>
                            </p:stCondLst>
                            <p:childTnLst>
                              <p:par>
                                <p:cTn id="1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4000"/>
                            </p:stCondLst>
                            <p:childTnLst>
                              <p:par>
                                <p:cTn id="1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0"/>
                            </p:stCondLst>
                            <p:childTnLst>
                              <p:par>
                                <p:cTn id="1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61CA4C3-7810-4FB1-BDA4-FA3ADD0C4BB5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1E8AA880-FFBA-407B-8D32-A0F75CCD0A79}" type="datetime1">
              <a:rPr lang="en-US"/>
              <a:t>07/31/26</a:t>
            </a:fld>
          </a:p>
        </p:txBody>
      </p:sp>
    </p:spTree>
  </p:cSld>
  <p:transition>
    <p:wedge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2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6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4000"/>
                            </p:stCondLst>
                            <p:childTnLst>
                              <p:par>
                                <p:cTn id="20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0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6000"/>
                            </p:stCondLst>
                            <p:childTnLst>
                              <p:par>
                                <p:cTn id="2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4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8000"/>
                            </p:stCondLst>
                            <p:childTnLst>
                              <p:par>
                                <p:cTn id="21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8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0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1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2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3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4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5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6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7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8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5000"/>
                            </p:stCondLst>
                            <p:childTnLst>
                              <p:par>
                                <p:cTn id="2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249286-E950-4992-B54D-8DDD8DFAEBC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146FA14D-3DEF-44DD-BAC7-5521E5E1D465}" type="datetime1">
              <a:rPr lang="en-US"/>
              <a:t>07/31/26</a:t>
            </a:fld>
          </a:p>
        </p:txBody>
      </p:sp>
    </p:spTree>
  </p:cSld>
  <p:transition>
    <p:wipe dir="d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000"/>
                            </p:stCondLst>
                            <p:childTnLst>
                              <p:par>
                                <p:cTn id="25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2000"/>
                            </p:stCondLst>
                            <p:childTnLst>
                              <p:par>
                                <p:cTn id="26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3000"/>
                            </p:stCondLst>
                            <p:childTnLst>
                              <p:par>
                                <p:cTn id="27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4000"/>
                            </p:stCondLst>
                            <p:childTnLst>
                              <p:par>
                                <p:cTn id="27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5000"/>
                            </p:stCondLst>
                            <p:childTnLst>
                              <p:par>
                                <p:cTn id="28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6000"/>
                            </p:stCondLst>
                            <p:childTnLst>
                              <p:par>
                                <p:cTn id="29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7000"/>
                            </p:stCondLst>
                            <p:childTnLst>
                              <p:par>
                                <p:cTn id="30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8000"/>
                            </p:stCondLst>
                            <p:childTnLst>
                              <p:par>
                                <p:cTn id="30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9000"/>
                            </p:stCondLst>
                            <p:childTnLst>
                              <p:par>
                                <p:cTn id="31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11000"/>
                            </p:stCondLst>
                            <p:childTnLst>
                              <p:par>
                                <p:cTn id="32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12000"/>
                            </p:stCondLst>
                            <p:childTnLst>
                              <p:par>
                                <p:cTn id="33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1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3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6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8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1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3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6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8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1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3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6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8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1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3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6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8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1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3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6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8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1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3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6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8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1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3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6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8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1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3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CE26DD-E92A-4EFC-B953-B3B291D3A954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E18C9E40-2664-4E9D-89CF-C2A7247DB400}" type="datetime1">
              <a:rPr lang="en-US"/>
              <a:t>07/31/26</a:t>
            </a:fld>
          </a:p>
        </p:txBody>
      </p:sp>
    </p:spTree>
  </p:cSld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0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0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3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45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48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49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2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4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7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8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