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4EBC-8174-430B-BBE6-C9BE26E88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2FDF-E7CC-46C9-814C-9EDD19FA4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EF89E8-C6C0-4523-B46A-8926F47C2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CC65D5-3C48-40A2-9E0F-5B7C507E6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F174DE-C943-4A1D-93AD-6D16681E1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62643E-5C22-456C-8FAD-EFFD487C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82BE5D-056D-4B8F-88FF-DB617A02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F18700-D814-4AE4-97B9-D4AF222D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59C375-B545-4140-ABD5-33BC11A7C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60DD7A-6A1E-4D06-8D17-54F185F2B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F5959E-18BF-41BD-AE1F-EDD6531E1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1BB9C93-D607-4241-99B7-826F55AC1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4291-9BFE-41F0-8835-FBFE026B3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D1CE1C6-8FBD-47D2-875F-4C931451F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BDF9C39-9017-4B21-902C-502828A44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FFF488B-DA4D-437A-8792-B9CED69CE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FB53EDC-3978-403C-A9D1-F9A10A344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1BFDB01-4212-4144-9666-8D52F5D2A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FC9AD07-C7C1-4C33-865E-FD7E3815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F3D9810-3BA0-4ADF-B02E-3A05D211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F4504D3-7FC4-4BDA-8216-28F5E25E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7BFDA03-1E9C-49FF-AFA7-F88C6A431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DA9F4C5-6D31-4C65-910B-7D571D144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7C7A-A389-458E-AA38-C0D457DC1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909F45B-46C7-4495-840F-AC3578735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8C959E-1D6A-494D-A6E8-1B003523F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C457DD-6FD7-4178-897F-F01C8B815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7AFB4A-706F-4614-A27E-CEC6CE7E9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305D5D-72DD-4531-8CA0-6330D82BF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2AC003-B40C-4E03-AEF7-B4EED1A6E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411DBB-2843-4104-9B6F-78F18BD9B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C77FB7-DE65-47A6-BE5A-F407720E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7BFE26-6D5A-475F-99EC-609432CA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A82B20-4796-42AD-A78F-37943D1B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A8B3B-550B-441F-A954-C98CDB187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65EE01-0ADC-4BDE-97BC-B340FF8ED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1CDD39-65C1-4B5F-8146-F828CE51A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797232-ABDB-4B63-8F21-ADE7742B1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A849BE-2D42-4F3B-B8E9-E24B139D3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E17AFE-9D77-4179-9030-BA3DEF5B0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3C83A4-8F0E-4F07-A493-08FAF586B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BB3DAA-F6D4-43F2-A8D6-84C490DF1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36EFCB-0797-4534-A915-544E8929F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CC8EF7-D1C2-4E9A-B84E-37F398259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D1160E-19F6-49CD-84CA-324F4E77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779B3-1FD4-40E8-AE78-091659E77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C44C2F-0574-406D-9A0B-FD7824AA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8B0C91-17E0-43DC-844A-2ABD3B97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4B1B86-ED63-4AFA-A7FD-5D0AFE609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FF3EFE-0B3B-4D54-9AAF-8F5790CBE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F626BA-5734-4344-A15A-5E224A1CA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58333-B079-4709-8B28-01BC45227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10FBB-8E75-40B7-B45D-353F87289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F58CA-C9AB-470C-8294-B3233DC01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9D581-D347-4B8F-9076-B94569BC7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EA666-E2D4-43AE-BDF8-4090F7A6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AA3E-9D00-4D39-9FB1-98C319680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F7009-F2E3-4DC9-90C8-20D1D1BE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3D2AC-E2E3-4151-B7AF-D9C17AB2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497DA-29FD-4F29-AF90-A0C0DF15A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09F11-A8C5-42DB-AA21-7A14F41C6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232CD-8384-4C7D-9E13-A70764BF3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01952-3F3D-4778-B2F7-E0824B0A1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49980-1271-4EF3-9F0E-6EC07F450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0852B-D9C2-470C-8B4C-2B63DB04A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863F4-CB6D-4171-9C64-418EAE0D6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19891-EAE3-4A5D-A3CB-CC1CA5F3C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EC03-DD2A-4FBA-8CAF-71F1F7D14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E8F24-2A52-47F6-B741-AD92CA26B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BD34D-8A79-4879-9F72-6C16CFB0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B764C-709C-4159-A0E9-C6493F4D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727D8-6BF0-4456-93EE-69A1DDE9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979F4-A3AE-45E3-8029-FB44488F9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49AFE-DA64-4322-A95A-48ECE3922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561AF-6CDB-48BE-8204-E749E3C9E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ECD56-DF68-4E13-AE95-F23552461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28267-54B9-45DA-B25A-D426DE841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21FC4-946B-4DEE-981B-796EC810E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BFF2-8F75-485E-9095-5AFE88220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F448D-F14E-4F90-A684-D5D128B76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E864F-0721-43F2-A3DF-3B13C3B66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ED318-24C9-4B23-B502-A9C4EAC34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64B95-F65B-480F-A929-76215F79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18AC4-20EC-4674-A21A-2F69D70D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E113F-FF48-461E-B286-02A595E3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B1CC5-7B75-476F-A478-9ACE0810F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36F0F-3344-4D7B-86A5-32409AAE2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EA1C8-CBBE-433E-8626-F6D50D84B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B38A7A-F35F-4956-ABFE-E2C45CC56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3EE6-DEDA-461B-8150-20B7C8932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D8FE50-D11D-407B-B7ED-0A0541CFC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82E530-879C-4522-A8F4-CADCED076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2C56C9-5F26-43C6-948F-F5DA6AAAC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AE81F3-4213-4958-BFA1-18D652CF2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31D248-B24B-4CE0-8002-55716281C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804B62-0666-4AB1-AE11-C41BB69E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F991B8-160C-40A9-81DD-A0B72117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EC2A56-8584-4B7C-9203-92789D16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9093B4-CC79-48A4-B759-8CAC021EF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209A1B-34AE-4CE4-8180-ED7D919CD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A9E2-7196-4D14-B221-72A519469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4E5BA2-4FEE-4878-881F-49DF516DE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A78D2-C7C9-41F0-B140-3C9AE19AD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3DEB44-91DB-4901-B28D-06CA2764D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6BEDC-A2F3-4D2A-8013-F1C2EBAEC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DDFC1-2259-4C52-A3E1-98F74889B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C8FDF-437D-4570-B95B-04004980E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6A7B1-300C-4203-8BCB-771E812D3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C91E2-21F6-486E-B53C-FA872F2E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D43C9B-932D-414D-B14E-E582868B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9235E-96C2-4E93-91EB-0F127810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62AB-A6F0-4AC1-A2B4-826F7ED8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A3C29-6719-4951-9DFE-29B6F648C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77973-79FA-47E3-8B47-208B89C20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A46B3-2C5E-4BD4-9748-1FC3B16F4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15521-498C-4D13-91B6-F9B6E2BBC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B770B5-5DB5-4E3F-8C67-0A431A725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66807-6A51-474E-9AD6-8AC5C994A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2E249-82F7-4510-B187-D081F51BB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C6BA0-4DCD-47F2-82AD-54913F881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31AFBF-37BB-41C5-981C-0A82EA6F9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1B139-07F2-4693-B5A0-CAFEF59D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8EE5-2110-41AF-8485-E86D0607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F17EA7-1542-4AAD-AD84-4838E769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54F810-325A-478E-9479-7CF33232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DA75D-A89F-419D-9D4D-13B34DE45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7C02AB-115E-43B8-B2D1-A0B465E2E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5DE1F-4AF3-45CB-8F1E-27C4EEF90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446ED7-475A-40FF-9E35-B9B8A5910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013C6F-18BD-4E28-8CDF-79492DEFE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FA540E-8987-412F-BC3D-FDDBCAFAC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227706-3B34-4AA6-971A-1D1716F6B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F45D15-2441-4EB0-86FB-7B3D12D8F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13AB-4156-44A7-B088-EE5631CC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B2BA9F-9CE9-4BD9-A40D-924DABD2C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D81BE7-2956-4074-8495-4010F3D8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1A9B2D-9BBB-49D4-8040-3351387D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A4C265-C0CE-49A8-B21B-91E75A3B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066D12-A18D-4C83-901C-73E311E72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EAA26C-3036-4908-9582-B16D0D56B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DF7EA0-0E36-4430-AB98-4ED96CDFA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7E52FC-BA64-445A-BC0B-EE96A1364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14332F-3512-4FA4-BC80-62D8E9E77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C57DF6-89FF-47C0-AFE9-DEB69A72F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D78E4-CE4F-461F-829A-F5A9850A8672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6EED4-C738-4804-BA54-C329E00E1B8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D443B-29C9-42D5-869B-45289F60AE3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65C8E-FB82-487F-9BE2-E047A2DC1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FDFBB-FB61-46E7-8D1B-E270E64D2C0A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9D36F-EDC1-4659-8B8F-B84B8FE9B7D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83647-9EA6-4D02-AF6C-AE8DE302593B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A8D70-C75B-4B3E-A00C-0C126FB78E6A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D0D1D-73A2-4626-A101-E98C5B1179C4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541B9-CABA-4536-8B4C-AEAC233AD3C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59F91-40FF-4040-8304-3AEBD463004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49C31-5B52-492E-9DCD-3FEC52D5CE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442D-BBBB-4777-90F3-52E57906182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0E1B3-3559-49B2-87C1-61E1557B25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F6F0C-9849-4F24-A21A-F05216259AE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74517-8D28-4863-B8E4-DCC8FC8AA378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9AC43-3934-4C11-9F7F-B41E60D181A6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79048-96A3-4655-88ED-8C2FDE99CCE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D4086-1F56-4ACA-ABB2-3F0D4E608E09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7F2D3-1414-45D3-82FB-6420332E43A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05611-5EE0-451F-BC9B-6BAA3866D30C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21DBA-5885-4E5E-802F-0C0ECE472DA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DAF71-702C-44D0-B376-7BB99DD5701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7749F-35B0-4EB7-AE2E-71E699492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FD1C-987B-43D0-9135-2BB6DD86AE0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B64BE4-FAAF-44BB-BF57-48ACBB4E54E8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71068-E9B0-44A7-ADBE-95BCEA31DCE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BB3FBB0A-1CB7-490C-962B-F11EEC17387C}" type="datetime1">
              <a:rPr lang="en-US"/>
              <a:t>07/30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1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w)" to="(-#ppt_w*2)">
                                      <p:cBhvr additive="repl">
                                        <p:cTn id="119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0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42" dur="123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43" dur="123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44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45" dur="123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46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3C781-C7C0-46F9-9358-A3B05C940741}" type="slidenum">
              <a:t>3</a:t>
            </a:fld>
          </a:p>
        </p:txBody>
      </p:sp>
    </p:spTree>
  </p:cSld>
  <p:transition>
    <p:comb dir="horz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527A7F-1756-4766-8ABB-CAB2E9B3F190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3F1177FC-5C24-4D37-8006-CDF98BAD4EF6}" type="datetime1">
              <a:rPr lang="en-US"/>
              <a:t>07/30/26</a:t>
            </a:fld>
          </a:p>
        </p:txBody>
      </p:sp>
    </p:spTree>
  </p:cSld>
  <p:transition>
    <p:wedg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8000"/>
                            </p:stCondLst>
                            <p:childTnLst>
                              <p:par>
                                <p:cTn id="2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1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1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525105-8D53-4F7A-A860-26B34B8F941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48E5FEA7-D56B-4D85-AB9D-212E57E80514}" type="datetime1">
              <a:rPr lang="en-US"/>
              <a:t>07/30/26</a:t>
            </a:fld>
          </a:p>
        </p:txBody>
      </p:sp>
    </p:spTree>
  </p:cSld>
  <p:transition>
    <p:wipe dir="d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3000"/>
                            </p:stCondLst>
                            <p:childTnLst>
                              <p:par>
                                <p:cTn id="2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4000"/>
                            </p:stCondLst>
                            <p:childTnLst>
                              <p:par>
                                <p:cTn id="2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6000"/>
                            </p:stCondLst>
                            <p:childTnLst>
                              <p:par>
                                <p:cTn id="3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7000"/>
                            </p:stCondLst>
                            <p:childTnLst>
                              <p:par>
                                <p:cTn id="3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8000"/>
                            </p:stCondLst>
                            <p:childTnLst>
                              <p:par>
                                <p:cTn id="3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9000"/>
                            </p:stCondLst>
                            <p:childTnLst>
                              <p:par>
                                <p:cTn id="3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6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3FA143-1A79-4EEA-9F66-8542BF854D0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1F667F1B-91C4-4A71-B079-1E52DB99BDBF}" type="datetime1">
              <a:rPr lang="en-US"/>
              <a:t>07/30/26</a:t>
            </a:fld>
          </a:p>
        </p:txBody>
      </p: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5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0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71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