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271083"/>
        <c:axId val="75996508"/>
      </c:barChart>
      <c:catAx>
        <c:axId val="332710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996508"/>
        <c:crosses val="autoZero"/>
        <c:auto val="1"/>
        <c:lblAlgn val="ctr"/>
        <c:lblOffset val="100"/>
        <c:noMultiLvlLbl val="0"/>
      </c:catAx>
      <c:valAx>
        <c:axId val="759965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2710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518D-344E-4AE6-B4FA-32847F2F6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E692-A2D1-480C-B9D0-187E09FB1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EFA4-00E8-4F65-A578-ABCF36BD2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AC30-1F12-44DD-9F6C-CD7668A6B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877B-544B-4F04-9298-016C3B1B1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94FF-D2AF-4834-8F14-E95FE165C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9AC1-AF16-4BD9-B41A-3549B962A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0B5A-F3D6-4658-B271-90A898E5C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A315-A7EF-46A7-9745-B90B2F8D1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BE4B-A67E-4F2E-A542-1F910DD2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7121-C752-4A44-B462-350AC212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744D-CF94-4E62-A0C9-1470E423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4FB27D-ED0C-43A1-BD8A-04D25A9DDAB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