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43050"/>
        <c:axId val="59631700"/>
      </c:barChart>
      <c:catAx>
        <c:axId val="38343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31700"/>
        <c:crosses val="autoZero"/>
        <c:auto val="1"/>
        <c:lblAlgn val="ctr"/>
        <c:lblOffset val="100"/>
        <c:noMultiLvlLbl val="0"/>
      </c:catAx>
      <c:valAx>
        <c:axId val="59631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43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04F-2569-4A55-9777-ACC55608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CDD-3830-4884-9BBD-C0F7F361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220-A798-4A51-9A4C-E6C0BFF5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F10-2117-4051-BA46-3360DEFA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345-3B80-4CE5-A8EB-A80C384C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F03-8A10-4E4D-956C-62052397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EAE-E716-4A42-8360-41EC9698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AE1-4839-4117-AACF-E5A1CB33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213-F50A-4A0E-B9D6-CC015553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3A7-DEE8-4061-B761-A607457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225-1C47-49CD-B119-71E1CC7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E74-FF33-4A2C-A9CF-8C099744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D36B2-D16D-422D-BBED-A845F60E40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