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55607"/>
        <c:axId val="3716097"/>
      </c:barChart>
      <c:catAx>
        <c:axId val="65055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097"/>
        <c:crosses val="autoZero"/>
        <c:auto val="1"/>
        <c:lblAlgn val="ctr"/>
        <c:lblOffset val="100"/>
        <c:noMultiLvlLbl val="0"/>
      </c:catAx>
      <c:valAx>
        <c:axId val="3716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5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585-78B0-48E1-B8D9-6C470C5D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1D4-E970-4E6D-907E-03079561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C3D-4CF9-4D16-9F76-8CC10528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92F-0782-4F10-BC8E-2FAE3150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467-A62C-41E4-B441-A3A7521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BAE-4185-472B-8E3C-EC3CE67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057-988F-499B-B69F-BC27908D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5EF-CE92-422E-A042-5442C701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C1F-0480-49E1-BA06-07AE4B95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3F2-E11E-4B72-AA0B-963C2060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B93-1F72-4A3E-A25F-855E6A8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932-E416-4A62-82C4-5D2F5B6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A0367-A9D4-49D5-A07C-ED00B9BC6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