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87183"/>
        <c:axId val="79087613"/>
      </c:barChart>
      <c:catAx>
        <c:axId val="93787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87613"/>
        <c:crosses val="autoZero"/>
        <c:auto val="1"/>
        <c:lblAlgn val="ctr"/>
        <c:lblOffset val="100"/>
        <c:noMultiLvlLbl val="0"/>
      </c:catAx>
      <c:valAx>
        <c:axId val="79087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87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6C0-432C-48FF-B499-9FD8C5C1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E39-60E9-4227-A67E-89E555F8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00C-CDBC-4D1D-A9EC-4CEAF635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AE1-5C68-4251-B4FB-2A5F4738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680-51BD-4B1F-BC6E-84105E1B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C10-FFEF-4DDC-815F-4E7EFA33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A2F4-E63D-4C16-A0D3-55BF7B18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8AB-BD6A-4AD0-A89F-5C645ED4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B88-D89F-4240-87BE-E7B1F5D1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5CC-95ED-4ACB-8369-08542502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740-BC2B-42E7-A953-3D7359C5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AE1-8365-4AC0-8AB0-6E96A848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A936E-D7FC-4460-B456-1D8C3593E5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