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6760363"/>
        <c:axId val="51971811"/>
      </c:barChart>
      <c:catAx>
        <c:axId val="4676036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1971811"/>
        <c:crosses val="autoZero"/>
        <c:auto val="1"/>
        <c:lblAlgn val="ctr"/>
        <c:lblOffset val="100"/>
        <c:noMultiLvlLbl val="0"/>
      </c:catAx>
      <c:valAx>
        <c:axId val="5197181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76036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6C1F9-0BD2-4268-83AE-572C6741D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87F3D-3158-42B2-85CB-9821C49CA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DE797-5261-4B85-8375-CA6A5598D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F777D-7D7F-42AC-AF2D-D6AD553A7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CED07-7FE3-4775-AA43-D1C02F3B0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34AB8-CEDF-4FE5-A448-07D52648F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52334-F039-44B9-8BA2-4A6244652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924BC-2ACB-4A83-AE97-6CFF69CC9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0C7D6-9A3A-45FD-9661-9F31096CD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D43AD-CCE3-409A-ABD1-11FC5BDA2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72DB8-6FC9-4BE1-A10C-721C15366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37203-53E0-4521-96AE-994C525AA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00BD3C-6CD1-4F24-A2FD-767DC123484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