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455885"/>
        <c:axId val="26794152"/>
      </c:barChart>
      <c:catAx>
        <c:axId val="154558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794152"/>
        <c:crosses val="autoZero"/>
        <c:auto val="1"/>
        <c:lblAlgn val="ctr"/>
        <c:lblOffset val="100"/>
        <c:noMultiLvlLbl val="0"/>
      </c:catAx>
      <c:valAx>
        <c:axId val="267941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4558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6FA5-5BEB-4F3F-908F-4E5E13891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C874-803D-4A83-9351-673982678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029F-75A5-4191-A248-306E16C96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4502-5EC8-4AE7-A717-15A0A3460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5973-C823-4B48-8290-E54112D43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5755-6C6C-49F1-B4F3-E3E7514A8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806D-2286-4110-983E-B94B1C2C0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034F-7C1A-43F2-B122-4FCC91D4A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377F-A90D-4329-9963-6D97BEED0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EDCF-092C-4281-892F-0F193201F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1AF4-95DF-4440-AA24-666726A90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5C62-1A4E-4AC5-950B-5B986BA24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965269-BDAB-4F19-9B84-AAE7E77BADE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