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90767"/>
        <c:axId val="88192951"/>
      </c:barChart>
      <c:catAx>
        <c:axId val="60490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92951"/>
        <c:crosses val="autoZero"/>
        <c:auto val="1"/>
        <c:lblAlgn val="ctr"/>
        <c:lblOffset val="100"/>
        <c:noMultiLvlLbl val="0"/>
      </c:catAx>
      <c:valAx>
        <c:axId val="88192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90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D4B-9400-4BF4-B207-0988CD1F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C40-38AC-4C2F-AD6C-7E8EEF62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1FD-73A5-446E-A11D-A4B94959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318-E60B-426A-9DD8-B9F9F838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086-A8C5-40F6-8C72-CE1997B1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064-A43B-45CD-8986-0C7A466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732-F83B-4B87-9DB2-0890C99D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2C2-4A32-4551-AF07-261F39FE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297-7104-4883-936C-6E347CEB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2FB-4FCA-41F1-9118-8225D694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E34-0BBA-4985-9A34-7C7DA83F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5BB-2D7C-451E-B6A4-3E6B99D4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8BE8C-6A82-431F-8893-59150F5AEA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