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0973660"/>
        <c:axId val="64224870"/>
      </c:barChart>
      <c:catAx>
        <c:axId val="5097366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224870"/>
        <c:crosses val="autoZero"/>
        <c:auto val="1"/>
        <c:lblAlgn val="ctr"/>
        <c:lblOffset val="100"/>
        <c:noMultiLvlLbl val="0"/>
      </c:catAx>
      <c:valAx>
        <c:axId val="6422487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097366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DF6FE-1785-4912-BDFB-41F6F94BE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CBD47-A969-4F7C-AE48-B1E0ABFDB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7205E-59B2-418B-8B48-B69719BEC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48A54-6F7A-44C1-8139-0D43D408E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BA22D-F48A-400C-B7D6-85B709DA4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27636-2DA6-40F3-9881-B125D3021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EEBE6-2F76-46CF-9C73-8CCC93BCA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023B1-4290-483C-A845-521B8B5A6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163AE-BD02-4A13-BFB4-C24B74906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80391-C1EF-4DA3-8D12-981E95D91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8EBE1-0932-4526-A97A-0BC7C6496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144B6-8E6F-432A-B335-CFCB32383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8FB417-2E1F-471B-8C7C-B16AC123AB2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