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47197"/>
        <c:axId val="7832513"/>
      </c:barChart>
      <c:catAx>
        <c:axId val="16447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2513"/>
        <c:crosses val="autoZero"/>
        <c:auto val="1"/>
        <c:lblAlgn val="ctr"/>
        <c:lblOffset val="100"/>
        <c:noMultiLvlLbl val="0"/>
      </c:catAx>
      <c:valAx>
        <c:axId val="7832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47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F1B-C1C4-4A4E-9A83-07D665BC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E70-F438-4259-81C8-01702AA7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1AA-C7B9-4319-87A7-9425B5FE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40F-391E-4EED-BB37-89862CBC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AA2-4A57-4987-8B8C-914CA85E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22D-1C1B-46B2-96BE-592484EA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BD0-1F8F-4A22-9DD1-9C01FABE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4F8-C8C0-469B-A892-EE36433B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01B-31B6-4676-BD06-82052C06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047-F77F-444A-885F-8DB7D59A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978-DBE5-49BA-83C1-B29F610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E2B-6E11-4477-8C9E-5B99ECB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4BB18-ED1F-44E2-BB66-6B84EEB30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