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350534"/>
        <c:axId val="61241609"/>
      </c:barChart>
      <c:catAx>
        <c:axId val="883505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41609"/>
        <c:crosses val="autoZero"/>
        <c:auto val="1"/>
        <c:lblAlgn val="ctr"/>
        <c:lblOffset val="100"/>
        <c:noMultiLvlLbl val="0"/>
      </c:catAx>
      <c:valAx>
        <c:axId val="612416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505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5133-C39A-4BBF-9D2A-C0223888E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C0AF-8722-4034-B83F-D9D6380B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4048-06C7-4DFD-8304-DF86238CC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2B32-2E6A-497C-9A4E-E013ACA47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D54B-584E-460B-8CC8-1D417842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8F04-67CD-41F8-859F-F767D4D7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6244-ACEB-43C9-9F95-784969DA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9BA5-48F4-48ED-8D3C-0618FA1C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0361-0206-4A99-A971-A8498049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BB99-9AB1-44AE-A935-569D621D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9E08-E670-487E-AC5B-819E360D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577D-CF23-4D51-9CB6-DE53BF03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1103D-3DF2-4D7B-AE74-A10F6667B5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