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53083"/>
        <c:axId val="70702808"/>
      </c:barChart>
      <c:catAx>
        <c:axId val="32953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02808"/>
        <c:crosses val="autoZero"/>
        <c:auto val="1"/>
        <c:lblAlgn val="ctr"/>
        <c:lblOffset val="100"/>
        <c:noMultiLvlLbl val="0"/>
      </c:catAx>
      <c:valAx>
        <c:axId val="70702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53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0AC-324F-4E53-8024-B410A80E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F4C-E5A2-4EED-9A30-002F58DA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CF6-8F07-42CB-81C6-8A7AB96F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FEC-A936-4302-AD88-60305C14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053-C2E1-420A-B9B2-8479DCCC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E34-72D2-4D9C-B95A-D2F1827C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4F4-625D-4FA7-B9FF-FBB37752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A80-C7B6-49C9-9F2F-2182AA15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8AD-92E1-41CE-8DD5-3A4CAE47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690-731C-4ED5-B843-10F95995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906-45BA-4ED1-9727-BFDB791D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04A-F738-40FD-9FDE-40418E7F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6370C-2888-4C65-BC7B-1FEDAD2A27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