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58683"/>
        <c:axId val="29247779"/>
      </c:barChart>
      <c:catAx>
        <c:axId val="26258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47779"/>
        <c:crosses val="autoZero"/>
        <c:auto val="1"/>
        <c:lblAlgn val="ctr"/>
        <c:lblOffset val="100"/>
        <c:noMultiLvlLbl val="0"/>
      </c:catAx>
      <c:valAx>
        <c:axId val="29247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58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925-E1EF-4C03-9F8A-0337C56D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051-73D3-46E6-BD4C-00934866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139-DA3F-4977-9751-67BDD927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AA0-E595-4A06-84B5-E2DE5F59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FD3-2734-4090-9323-5EC24136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E0D-F7D7-46A8-8C24-A3304461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271-5F8B-46DA-845B-5797264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234-03A8-48B2-ABD1-4DA2E66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039-DF5F-4ACC-87C6-3E3F664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A69-6743-430D-ADD5-A20CEB7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F9D-0B9D-4A40-AB9F-832CA41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F55-DB3C-4E5E-B95A-D1D9071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1D481-1F15-4CEE-BF58-601A5C976A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