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45779"/>
        <c:axId val="6511390"/>
      </c:barChart>
      <c:catAx>
        <c:axId val="911457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1390"/>
        <c:crosses val="autoZero"/>
        <c:auto val="1"/>
        <c:lblAlgn val="ctr"/>
        <c:lblOffset val="100"/>
        <c:noMultiLvlLbl val="0"/>
      </c:catAx>
      <c:valAx>
        <c:axId val="6511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45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537F-DF1B-46BE-87E2-7BE533DF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C55A-536D-4BD5-82CB-569AA7A5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737-E711-40CC-B603-02894BFB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F03-3515-4666-B701-65EC8E3F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D2A-720C-4FC2-A604-BD532A23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034-405A-4B69-8A87-9B94E062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044A-3D0E-48D6-BDCA-AC39C3D0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DD7C-FEA3-4109-983C-25014FBB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D27C-14C0-48CC-8EB5-4F8C073B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4A2-B02B-4369-9D06-4F414BB9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2C6B-382B-4235-B48A-E33EFD45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6F2D-E436-4E38-AB56-5953997D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30CAF-84FE-421A-B83F-057C700511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