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8728"/>
        <c:axId val="51237509"/>
      </c:barChart>
      <c:catAx>
        <c:axId val="9648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7509"/>
        <c:crosses val="autoZero"/>
        <c:auto val="1"/>
        <c:lblAlgn val="ctr"/>
        <c:lblOffset val="100"/>
        <c:noMultiLvlLbl val="0"/>
      </c:catAx>
      <c:valAx>
        <c:axId val="51237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F96-062B-4768-B395-F7E2DA34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7CE-8B35-4AE8-9C77-A872969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A5D-CFF1-4B8D-B352-E05A216E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F1F-941A-493A-B377-45A5C853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3B1-D3C8-4EBA-92FC-F1FE1D2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D76-56B3-4E84-AEB1-D1248DA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EC0-178A-4610-87F2-1DA2D94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843-5506-44CB-8D1F-C0BA61D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44C-ACE9-4405-AC53-4F024A0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31C-21E9-476A-B39E-18A297A3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723-FD89-4509-88B2-77653A9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281-98A4-4ED8-8494-B6F4FDE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D00CA-0D51-40A1-A9C9-25D4ABC24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