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08856"/>
        <c:axId val="33523762"/>
      </c:barChart>
      <c:catAx>
        <c:axId val="10608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23762"/>
        <c:crosses val="autoZero"/>
        <c:auto val="1"/>
        <c:lblAlgn val="ctr"/>
        <c:lblOffset val="100"/>
        <c:noMultiLvlLbl val="0"/>
      </c:catAx>
      <c:valAx>
        <c:axId val="33523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8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59D-4E9F-403B-9847-C40A304B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9D6-FA47-44F4-A13F-E72F9CE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FBA-1121-422C-B725-2F9032C8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0F9-5FC7-45E1-ABF6-3C2D7111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CA8-4872-4DE3-BAFF-F1E647F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48E-C269-49CD-BC5A-8E227A6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BF4-D599-445E-AB0A-6DDBC81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FB4-2697-48AD-9C00-FE7C295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E64-8064-4F4D-9378-AFBFDA5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EED-79ED-4361-A5FE-3352E83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24F-C2CD-4CD3-A866-082230C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F75-3A48-4240-858D-30321F04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6F402-2524-459A-8D01-E9093FEE61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