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B8374-0D82-49FE-A8BD-3813CCF14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32AA9-37ED-49DF-9048-128F755E4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09CA9-C8CC-416F-97FF-A61D5AEB2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66B74-B940-432D-8B2B-DC9E6723E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A488C-3E14-4902-B55D-36943DB6E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216E2-023A-49B9-A68C-5BAA6111E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3DF2A-4F9C-4B86-80BF-5D5C7744A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8F3A0-3868-4D16-A945-E5A2DB133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9AB71-4BD3-4AF5-AB81-2E8DCA8CE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0EE07-949E-4743-AAE7-471C47346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49C6C-6AB8-486C-8F71-ADF41F6B1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ABED4-9287-43B9-BF68-22E317CA2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EF2CF-E575-405C-AD0E-26B90DD5CA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7120" y="1400040"/>
          <a:ext cx="6087960" cy="405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7120" y="1400040"/>
                    <a:ext cx="608796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4:23Z</dcterms:created>
  <dc:creator>Oliver Craemer</dc:creator>
  <dc:description/>
  <dc:language>en-US</dc:language>
  <cp:lastModifiedBy>Oliver Craemer</cp:lastModifiedBy>
  <dcterms:modified xsi:type="dcterms:W3CDTF">2005-01-06T09:24:29Z</dcterms:modified>
  <cp:revision>1</cp:revision>
  <dc:subject/>
  <dc:title>Slide 1</dc:title>
</cp:coreProperties>
</file>