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70D-4BF2-43E9-89D9-D003DC74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F81-3D69-44A7-AF5C-AB8010BD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8AA7B-53F4-4285-BCB0-1F8B2C36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E7D63-678D-42F3-90EE-B0E68525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4A121-FFDF-4CFE-BB80-99580A24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F0A2D-A590-46F5-AA87-2C13F912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2ACB6-4CD4-4B49-8737-3FF64AC4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E4B2D-981B-48DA-B6F8-9A444DDB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48DB8-2A8D-4862-B36A-A6D30CA9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14BD9-A3CC-49F9-8461-7C2A27FE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C647C-D82A-4649-9CD4-D05AC06C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7782FF-1A49-4C00-94AB-6247D07C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A01-520A-47D5-AD57-506A08E8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8C9C96-1092-4F91-874D-C9002DAF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C78E88-E6C1-4CF3-AE1F-5C607C7B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7B6981-587D-47F8-8476-1C901E14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DF2E37-B4B1-4322-9BE5-2B61C7A3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EFD609-6393-4503-85DB-BB48E246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5C1F73-0DFB-47EA-9527-52990CA6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A2E5A5-ECFE-4372-B1FA-801992BD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97DAA1-DFEB-4732-B258-11F8970F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7A1D10-5A61-42B9-A653-7D2BE5C4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A6600C-0965-450A-B290-9729F181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711-9D81-46E4-BB86-94D4AF8C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FE905E-602D-44B5-9109-0310E50A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21A89-5C0D-4776-B3A9-D1179E22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DF771-AF41-4862-BD78-1B5AACD2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7AC3A-81DC-427A-8D46-A4B321C9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FFFDA-87ED-418D-9388-C7B6DB8D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E5FD2-4100-4186-9602-C17A382F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F2919-6FE9-4709-8756-64FDDB78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1EA0D-3C34-4808-90D9-B069512B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F6DB8-B14E-4CB4-9111-4AD7E630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FDF86-9E30-4A25-AB35-3D48A06C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4837-38AC-4F74-A8BB-8F1C995F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89CD6-A38C-4DCD-8642-58EB5BAB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C2D52-B2AC-477C-A0EA-E2BBCF9C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BBACD-BE8F-444F-B0F4-8C26060E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2C07A-6202-4F47-9658-EB01A8CE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78DC9-74AF-415E-BAF4-38DE2C23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B3DE7-8DB0-426B-B486-C5FD2AE0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7987C-B7AB-41DB-9D84-58123DB2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56708-482F-47C8-81F6-CA4C4241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9CB88-4404-4E77-B814-CA83E792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71320-3BB2-42E4-9ABF-6B9A3FF0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AA6D-E7F3-435B-AE01-F153E906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13F60-BE41-4C9D-9AF9-506FF033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7B532-E903-4B07-902D-601D49C0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B23B8-9BCE-4562-8773-EFC1992C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F7F6F-F581-441B-BCFE-20FEECBF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AE5C6-94F0-4D39-8D1E-2A090153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9013-CFA8-4833-81F3-16016A91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1A32-3234-4B4A-A4F0-61D6AEAA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E071-2470-49CC-B548-0ACED89E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F08D-7774-4373-A566-E2B423A5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BD1F-4927-4DBC-B440-02BB02D9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D51-7686-4E25-8529-67AC90D7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787F-C9C9-4354-AC65-D0369D77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2FC8-006A-4394-80A9-44966A7F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D2AE-A306-4D75-9AB5-7E2E1A6E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6FA4-597E-49E1-96D6-0ECAD252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6B8E-CD01-4459-9257-5AA38F06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6F6FF-C86E-45D4-8031-BC0ED513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C49AA-3708-472D-A62E-EF831F75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18B08-D093-4E4B-A57A-AB335836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F35AD-2A28-466B-8875-DB9C3E5E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D27C1-A1CC-4BC5-A9C1-D3F3A663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D8E-6E59-4676-8E58-CB58ECCB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A9757-C71D-47D6-81D1-76603C85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B6CAF-01F4-44E8-B6E5-D7DA5FF0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56614-71F2-4663-B90C-60E2D1B7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85A7F-2E15-40C0-9150-2F7E8E0E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6FA6C-C2C3-464B-819D-F261B773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DD2BF-F535-4164-A7EF-B4FC71CA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78DAF-87A7-4A06-8C4A-3A78268C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88657-CF48-4DA0-8134-4C4A2EF9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0D262-3F28-45F2-96AF-6CD8D677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7EC13-8A09-41B7-B841-99AAA1BB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8F5-EF7A-404F-9F26-C4568F01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699B3-DD07-4150-AF99-240B176B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8ADA4-215C-439F-BE04-8D58FF81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B952C-69C9-4085-9B55-F7CAD61E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0E11B-9CEB-414D-BD89-E3537626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662B4-9842-4168-8DB9-19C762E8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E3EC3-4351-4E40-9EEB-C3FA0E64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977FA-5498-4741-8578-55F73467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5BCE4-CDE2-494B-9F98-496FDAC0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1D218-2C55-4E7E-A558-F5D82075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19592E-863D-44F1-AE71-525A5F55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4AB-C6A1-4278-95B8-A335595A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24D110-FC8F-4BE9-8E51-1479E558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A64908-1743-47A4-A266-7E48208D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9D8C3-2884-4B69-A700-92084EF7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443780-9970-48C1-8D13-4DE90049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E94C2E-2B7C-48AB-AA32-20702504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4EE18-EB18-449C-84E3-829F7EE4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62843A-9D6A-41BC-BA05-F673262D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5A5C6-D090-4273-8D1B-3AB467CB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0EE1D-9DAD-45D7-956E-20CD7100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2D1D8-12B1-4E77-A800-C8F4FC89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D34-CE43-49F2-8438-63843670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ADBFF-A3FF-4D42-849B-F0BCDA23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6D74F-3C91-4216-B2A2-783DE634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076F4-9D36-4C1C-B96D-C80C9DAE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97273-B7EE-4C3F-A023-969F9F37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A02CC-9975-4AFD-B6B3-574DBC87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172A6-08B8-4B79-A836-E10ACB12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4186E-C6A3-41EF-A1B2-74268034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B2F9A-C2C8-4FCB-B069-68020F17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44FCD-1A39-44B5-B542-33D0612F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2BF0A-482D-4EDC-85CF-C802EE5B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814-F12E-4452-857D-F1FB8B61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A59EA-3630-4198-A56D-7E74DD9C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F1CEE-93EE-4D9E-9FFF-F2182AE5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71F22-7814-4978-B275-81FE1227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20289-48D7-41A2-9B6C-643DAF0F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6C819-5689-4D9C-AE50-452972D3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B6087-FF8F-42AA-9D32-6865161C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56055-0271-4BB9-B11F-B00A838C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390AE-78C3-4F75-AA98-F66CAA42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6F7A0-AFCE-4012-91D4-C042DE6B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C0228-E645-4E11-AF70-9A61F22C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B31-8F9B-439B-A807-40C87A0B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28E04-6A99-459A-A85B-B95829E3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11FB7-23C3-4453-8EAB-4AC6CE32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01F8B-0C09-4D3A-B62B-A028169A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F3FC0-C751-4870-B04F-A3D9DDE0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19382-3A12-4B6B-9679-35FB44D3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4AEF3-81BA-4DF4-8FE6-DAA083CB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A67E2-DDDD-4D27-9600-716A7372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A75F4-AA9D-47DD-83E8-C51F0BAC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FAF93-27A7-44FF-B102-757B5370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596A8-E28B-48AA-94FC-47161BCC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3507-4964-481A-B258-4CED3A4F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411FC-C185-43C8-97ED-AF22CC93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957C5-79E5-47C2-8C42-00F2248B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6BC3F-33EC-4FEA-88D5-2173B68B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15A2B-7E5E-49C2-B094-85AE473E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D66DA-30F7-41FC-B5DF-D66CD8FD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DCC5D-2BF8-4162-891A-5286DC33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EC6C8-66A1-4838-A1CA-DB313B4F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00509-74B1-458E-A0D8-2516AA6F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936E5-C509-4FB1-82A7-859EA9D6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B79BA-464F-4EEC-83DC-E5738F22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B283-CC2C-4213-912D-6B10309EC07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F94C-8B1B-49ED-A836-638E87D0E8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BEAA-AB83-4486-A24B-B038A82C87E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BD50-E85D-48B8-8907-FCA404F5C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ECF4-3CA2-4A85-BE7A-A08D146AACE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1931-EFFB-4955-B49D-E5ED41FB1F3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9925-61DE-432B-A97D-4A0BAC16B5D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9D04-F3D5-4AB9-A51C-2114FFB6F76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FCCB-1815-4E11-A195-88F3F6FA11C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6F55-15C6-4399-8C93-0E40DF09D4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14E8-70D2-43DE-8B37-E298B81A4AA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C426-4226-4E1E-80B2-872469C93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C85F-30CA-48E9-8BB4-814EC48A217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5CF8-F9D9-4229-B503-791AB38B0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C177-9A00-47D8-8971-86ED4373A46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5993-6271-47E1-B398-DB0AC3CDFF9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D675-E9C2-4BC2-8D19-1FF3D32E57D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9484-04F7-42EF-98C6-91A85CD3847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31E6-1B33-438C-9479-3DE2A8FBD02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28C4-6CA8-4C73-BD11-86D00A56C9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33FC-78B4-4999-8AD9-E15A5189AE1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683E-899A-4145-B6A8-6839ED4AFAA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E4B8-F383-4C88-9BB5-C9B8BB48CDD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366D-757E-48B6-A373-DBF5A20F7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886-9959-4870-AED4-0292531DA2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68484-521D-4A25-89CB-97F1462CAF02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3EB9A-C804-45C9-A051-EF3EE544D1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5677C26-ECDB-41AE-83F4-E80BD0444FE0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6342A-5C8D-47A3-8D30-42F94F24C8DC}" type="slidenum">
              <a:t>3</a:t>
            </a:fld>
          </a:p>
        </p:txBody>
      </p:sp>
    </p:spTree>
  </p:cSld>
  <p:transition>
    <p:comb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DD995-6FA3-4DED-9DBE-09C5C1EBAA3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F171E7C0-F47C-42A8-AD97-BB0B605C5BC6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079C6-5F1F-4E9A-9DB5-A6E5875EBA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1E6C505-FA28-437E-8452-F8DF1CCFBD92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9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5D625-E1FD-4742-9EBA-6942F1DDEC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67177EA-3020-48D1-9E7E-D3108FAC70A3}" type="datetime1">
              <a:rPr lang="en-US"/>
              <a:t>07/30/26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