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arbrake.wav" ContentType="audio/x-wav"/>
  <Override PartName="/ppt/media/The%20Microsoft%20Sound.wav" ContentType="audio/x-wav"/>
  <Override PartName="/ppt/media/image2.png" ContentType="image/png"/>
  <Override PartName="/ppt/media/image3.png" ContentType="image/png"/>
  <Override PartName="/ppt/media/clap.wav" ContentType="audio/x-wav"/>
  <Override PartName="/ppt/media/driveby.wav" ContentType="audio/x-wav"/>
  <Override PartName="/ppt/media/image4.jpeg" ContentType="image/jpeg"/>
  <Override PartName="/ppt/media/image5.jpeg" ContentType="image/jpeg"/>
  <Override PartName="/ppt/media/image6.jpeg" ContentType="image/jpeg"/>
  <Override PartName="/ppt/media/LOGOFF.WAV" ContentType="audio/x-wav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  <p:custShowLst>
    <p:custShow name="Custom Show 1" id="0">
      <p:sldLst>
        <p:sld r:id="rId3"/>
        <p:sld r:id="rId5"/>
        <p:sld r:id="rId6"/>
        <p:sld r:id="rId7"/>
        <p:sld r:id="rId8"/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00FD-4EDF-4C03-8DC2-930A9A8C5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2418-0212-4776-BDFA-E0F3EB29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F4F0-1646-4B9B-B2F2-8299F5F8F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D6B7-E4BA-4B37-B533-22FB4773B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972E-73ED-4617-BB28-A933D5C5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8F65-1A4F-434E-AD91-7DA1D3B1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46FE-7492-41A0-91A1-C89F6D8F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70C4-2397-4664-9DC7-8374A864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06FF-0C44-4A58-8CDA-BBB42C4E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691A-2CB7-4CCC-A710-F2373CB7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B2AF-C23A-4A2E-8885-37783585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B1BF-8102-43FA-A7C5-8C61EC53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D993-D0D4-4C4C-8A29-8C073D6CD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he%20Microsoft%20Sound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LOGOFF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" descr=""/>
          <p:cNvPicPr/>
          <p:nvPr/>
        </p:nvPicPr>
        <p:blipFill>
          <a:blip r:embed="rId1"/>
          <a:stretch/>
        </p:blipFill>
        <p:spPr>
          <a:xfrm>
            <a:off x="880920" y="704880"/>
            <a:ext cx="7380360" cy="5448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  <p:sndAc>
      <p:stSnd>
        <p:snd r:embed="rId2" name="The%20Microsoft%20Sou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b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528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528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driveby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6720" cy="5686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  <p:sndAc>
      <p:stSnd>
        <p:snd r:embed="rId2" name="carbrak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672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clap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f" descr=""/>
          <p:cNvPicPr/>
          <p:nvPr/>
        </p:nvPicPr>
        <p:blipFill>
          <a:blip r:embed="rId1"/>
          <a:stretch/>
        </p:blipFill>
        <p:spPr>
          <a:xfrm>
            <a:off x="507960" y="376200"/>
            <a:ext cx="8126280" cy="61038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LOGOFF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" descr=""/>
          <p:cNvPicPr/>
          <p:nvPr/>
        </p:nvPicPr>
        <p:blipFill>
          <a:blip r:embed="rId1"/>
          <a:stretch/>
        </p:blipFill>
        <p:spPr>
          <a:xfrm>
            <a:off x="142920" y="160200"/>
            <a:ext cx="8858160" cy="65376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8T23:56:44Z</dcterms:created>
  <dc:creator>DirtySlesk</dc:creator>
  <dc:description/>
  <dc:language>en-US</dc:language>
  <cp:lastModifiedBy>DirtySlesk</cp:lastModifiedBy>
  <dcterms:modified xsi:type="dcterms:W3CDTF">2000-10-04T04:47:42Z</dcterms:modified>
  <cp:revision>2</cp:revision>
  <dc:subject/>
  <dc:title> </dc:title>
</cp:coreProperties>
</file>