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39774"/>
        <c:axId val="54114540"/>
      </c:barChart>
      <c:catAx>
        <c:axId val="21839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4540"/>
        <c:crosses val="autoZero"/>
        <c:auto val="1"/>
        <c:lblAlgn val="ctr"/>
        <c:lblOffset val="100"/>
        <c:noMultiLvlLbl val="0"/>
      </c:catAx>
      <c:valAx>
        <c:axId val="54114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39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09A-7B44-476D-8BEB-AEA7EA75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B49-2CC1-4530-B94C-8BEA3664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F02-31B7-49F9-BA8E-B558C016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32F-53FC-463B-8FFD-6674C033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7D3-7017-4DCD-AFB4-5FD6C6C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65B-AA55-4916-A07B-D5DFFDB4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64B-7D84-4881-B2D0-17927E3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064-06AE-4087-AF1C-EC1047D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CF8-B7D0-48BA-863C-BC881E25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F9C-5FFD-4E26-83D0-E41FA46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76A-9628-4164-87D5-057099C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947-2A23-4C3C-89D4-C37ACC6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4D902-381F-472B-A033-ACF089C84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