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595869"/>
        <c:axId val="10482018"/>
      </c:barChart>
      <c:catAx>
        <c:axId val="425958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482018"/>
        <c:crosses val="autoZero"/>
        <c:auto val="1"/>
        <c:lblAlgn val="ctr"/>
        <c:lblOffset val="100"/>
        <c:noMultiLvlLbl val="0"/>
      </c:catAx>
      <c:valAx>
        <c:axId val="104820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5958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D2CD-B24A-491D-9C42-DC387EAF5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6890-5FE9-46D6-A771-D9EF3406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022D-2505-41F7-A497-2F5B492E7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93B1-48B7-48D5-983A-81913D3EA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5470-A2A9-4044-9EBD-2A683B77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FE2A-7AE8-438E-B24B-79B93F2B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BBD5-8634-487C-B774-5CD9D135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E4DF-58F8-4408-9261-232F66F6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B4A7-2D5A-4E32-8E51-6B4AE0D0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30B6-342E-49DA-9B3A-1FA39DEA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37F5-46F1-4DDD-BA08-0FC425EE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79E5-D856-48F3-8DC2-359211AC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9B154-F82B-426B-9E75-17BE0A3460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