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28870"/>
        <c:axId val="8102706"/>
      </c:barChart>
      <c:catAx>
        <c:axId val="60728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2706"/>
        <c:crosses val="autoZero"/>
        <c:auto val="1"/>
        <c:lblAlgn val="ctr"/>
        <c:lblOffset val="100"/>
        <c:noMultiLvlLbl val="0"/>
      </c:catAx>
      <c:valAx>
        <c:axId val="8102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8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EE5-6EE1-4604-8ADD-0E44C8A7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328-83BB-40BF-AAEA-85152B51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CCC-6C62-4D1B-BA65-0A4D9AEF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310-28A0-43D9-AD12-D0641FCC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1BF-9376-4FD1-8C74-9F7D583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B5B-A23F-4DD9-BE09-9317767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4CC-E5FB-46CC-B576-EB895F4B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675-9CC6-4DFE-AD96-D6AF65A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9FD-1980-437B-9EB3-E4831932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08B-6B4E-48C0-AF49-4010D717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05E-67B2-4DDE-9410-DD85391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CC2-6947-47E8-BD88-3FC74E9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2D244-876F-45A7-B045-56C682D0D0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