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008008"/>
        <c:axId val="54571420"/>
      </c:barChart>
      <c:catAx>
        <c:axId val="180080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571420"/>
        <c:crosses val="autoZero"/>
        <c:auto val="1"/>
        <c:lblAlgn val="ctr"/>
        <c:lblOffset val="100"/>
        <c:noMultiLvlLbl val="0"/>
      </c:catAx>
      <c:valAx>
        <c:axId val="545714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0080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5CD1-336A-4C37-8C4A-EFC54AF9D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72AC-CD6B-4E60-97B2-E406BDCE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1374-C474-4052-875E-06ABA551C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F676-57A1-42F8-920F-45B9A19C6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B526-7A11-491D-8235-D826735AE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67B9-E5A4-42CF-8C45-BDECBC11A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176B-5CE1-4956-8709-5D97FEB7D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6E8B-8002-40CA-917A-DB4F6CB3B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33CC-CDA3-4034-9A9F-7856550EF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E641-0158-44F3-B8B3-D1D4E7F8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02DB-4229-4CEB-87B2-B840255B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B0E9-1A5A-424E-BC77-9EDF8959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0FC186-316F-41D3-90A3-ABC7661BBA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