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725201"/>
        <c:axId val="55926786"/>
      </c:barChart>
      <c:catAx>
        <c:axId val="587252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926786"/>
        <c:crosses val="autoZero"/>
        <c:auto val="1"/>
        <c:lblAlgn val="ctr"/>
        <c:lblOffset val="100"/>
        <c:noMultiLvlLbl val="0"/>
      </c:catAx>
      <c:valAx>
        <c:axId val="559267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7252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3696-3536-4CFC-BFE3-43770E17D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08EC-6DB8-4F50-8ED3-2632F22B6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2E4A-1AD7-4B7B-A3FF-B7419D51B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408E-036D-4BCF-94CC-BF9917312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08DD-2EB9-4276-89B2-4E0384315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6E68-CD70-4655-A56B-795BC31E6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73FA-DC48-410E-817E-11C2B032E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71B8-FA73-405D-A326-CFEB88DCA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CC5B-59F8-4667-9B0B-4D745FBA0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B125-1AE9-40C9-B422-C174750EC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16A6-5217-4D70-A454-8F12B7C94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B65A-3ED6-490E-89FE-1BCBC4AEC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04AFB0-5961-47B8-858E-715F6AD7F8E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