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30268"/>
        <c:axId val="75220495"/>
      </c:barChart>
      <c:catAx>
        <c:axId val="98030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20495"/>
        <c:crosses val="autoZero"/>
        <c:auto val="1"/>
        <c:lblAlgn val="ctr"/>
        <c:lblOffset val="100"/>
        <c:noMultiLvlLbl val="0"/>
      </c:catAx>
      <c:valAx>
        <c:axId val="75220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30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8BA-C02F-4595-AE24-42A2D630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CB7-6ECC-447A-BFB2-80553AD3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6FF-5E68-4915-8E2B-0DA193AB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D28-9F63-47D9-ABE0-C9D2737C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A85-10A1-4BB8-968E-19458F00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5A3-5E63-46F4-99B1-3CCEC22B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416-ED1A-4D60-9268-A08D7DAE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B24-B271-441E-BC09-94455129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F15-3CDD-47C5-8BC6-88C3312C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DD2-4788-480A-B08C-26053DA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5BF-062F-4AB3-9847-D3EE9D31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ACC-7A30-48D6-8853-42B75C6B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6553A-4F41-4486-94AF-133B6864EB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