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717"/>
        <c:axId val="6381742"/>
      </c:barChart>
      <c:catAx>
        <c:axId val="304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1742"/>
        <c:crosses val="autoZero"/>
        <c:auto val="1"/>
        <c:lblAlgn val="ctr"/>
        <c:lblOffset val="100"/>
        <c:noMultiLvlLbl val="0"/>
      </c:catAx>
      <c:valAx>
        <c:axId val="6381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AAD-C172-4B64-98FC-592739C1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D22-386F-49BD-BB32-FBA61A9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C48-69F6-4D87-8E52-8ECCD1BD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EC4-6565-46A8-8BED-FC59B9D6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0CD-1F19-4431-A063-A7CD16A4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F89-2D6C-4C50-8A83-90DA819B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BBE-6A20-4D39-8A30-1762B30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17E-7F9F-4A78-A9E8-6FCC5CE5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A33-EBDB-490A-9455-1D2C6EF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789-583D-4430-96E5-AC122F3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8B1-FE46-4F9A-A7A9-04D9FD8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A6B-CCD7-467F-A8C0-9CDF947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7B4C0-B06F-4477-B4A3-107BC74EC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