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66452"/>
        <c:axId val="38824220"/>
      </c:barChart>
      <c:catAx>
        <c:axId val="22266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4220"/>
        <c:crosses val="autoZero"/>
        <c:auto val="1"/>
        <c:lblAlgn val="ctr"/>
        <c:lblOffset val="100"/>
        <c:noMultiLvlLbl val="0"/>
      </c:catAx>
      <c:valAx>
        <c:axId val="38824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6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E10-E2EE-464E-AD58-7DA2D733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7CC-070F-45EC-BE46-31FE937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A69-230D-465F-943F-FB4D9019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354-9CC4-4658-880F-8285A955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228-BCB8-41FF-805F-564D601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DAD-2584-4D40-AD9F-D2AA7A4D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AB6-9520-47FB-ABC5-EC7275F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41C-D6A5-4698-AD09-3CD7AC29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F59-08A8-4C1C-ADDF-AEBDE2B0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EC8-D6CE-4FBE-94EC-A960B13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992-6D57-4A98-BEF1-87A20194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5D6-E582-410E-AD07-A516247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CA3CD-9972-43E0-9C80-400211DAA7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