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0863-E442-4ED6-8B3A-6DE2FD979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F369-E570-4D23-B1F2-43ED3A58A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27D3-C0BA-47A3-B4F6-150F76687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C9F4-F5C1-4DD1-B111-F28502910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EE720D-3585-4B8F-A902-D3DBDA9FA82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EDB753-C950-494F-BD65-BC2C4E62A35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513935-B763-4DDB-869D-2C5D928AEFA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12D8EC-B54D-41A8-A1C2-61A15C6AE5B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B99C6C-2A97-429E-8F14-8E66AC3F21B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BD345C-9432-4720-AC99-AB67BA408C7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67986B-97CE-49DB-8777-7C6F9A3FD3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B7F8-7085-4DA6-B53A-F5BB27984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DACEB9-221E-4B76-8CDB-8CD027CDB13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D1CECD-6E27-461C-8121-E231BE98E07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165249-09C8-4730-95BE-00DB0C72768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C1F826-0703-4CAC-92B7-4ED5719B151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C57A4C-6650-42B9-A72E-4C1A8DC635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9474-875A-4F4C-81AC-068827797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4AEE-3230-47B9-9A9E-49058D4AF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A062-B8F3-4257-B0A3-03BA1EAE7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9B8B-378D-46C7-921C-4F380CE7F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CBB9-35E2-44B2-B614-7A19C28E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63B4-8FD7-4A8C-8222-5BAAEC4A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229F-C71D-4623-8D29-F232BC98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472DF-850C-471C-8153-53D81A0DAA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F17E7-ECF5-4EEF-B8BE-87644E1BAD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4.0.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the 8.4.0 Tcl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ailable for Windows, Linux, Solaris and HP-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ay come in th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(cont.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tiveTcl 8.3.4.3 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vides a basis for the Tcl Dev K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dering threaded buil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77840" y="1104840"/>
            <a:ext cx="6953400" cy="557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cl Dev Kit: based on TclPro,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DK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beta (demo la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ActiveState 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Dev Kit 2.0 released in Aug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part of Komodo 2.0 P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-platform, x-language Tk UI buil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guibuilder" descr=""/>
          <p:cNvPicPr/>
          <p:nvPr/>
        </p:nvPicPr>
        <p:blipFill>
          <a:blip r:embed="rId1"/>
          <a:stretch/>
        </p:blipFill>
        <p:spPr>
          <a:xfrm>
            <a:off x="419040" y="1104840"/>
            <a:ext cx="8229600" cy="56404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tiveState GUI Build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4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than 2 years i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nning 4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release to be governed by the TIP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less features and enhan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ious stable release 8.3 set a new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E 8.1 will include 8.4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8.4.0 released September 10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mproved 64-bit support on 32-bit 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xtended serial port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regsub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 (cont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spinbox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labelframe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paned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core Tk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nlimited undo/redo in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tex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wid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pound buttons and lab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mproved window manager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orts now exist for native OS X/Aqua, Windows CE and Palm 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ontributo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523880" y="1231920"/>
          <a:ext cx="6096240" cy="498780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50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n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n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udaill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ink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un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lew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vid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y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verea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lli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r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valenk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rehb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z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v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ve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s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hu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me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ein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a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n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tcli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pp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uc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aha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e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chen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siljev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r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sku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g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t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l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amamo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nich, June 27-28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5 original tal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included on the Tcl’2002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Michael Hasch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and pictures on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-ide.com/tcl2002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via VFS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omnipresent in EDA indu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, Map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9-11T05:41:08Z</dcterms:modified>
  <cp:revision>416</cp:revision>
  <dc:subject/>
  <dc:title>Tcl'Europe 2002 State of Tcl</dc:title>
</cp:coreProperties>
</file>