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8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62BEC9C-27FF-46D3-B188-77DB094CE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387FCEB-02B2-4FC3-B7F3-D0137FD0A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99192D2-EF64-40E1-9A65-30686D1CC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E4ADCF5-700E-4AB8-8E16-737B4F6D3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8435F0C-900D-4DC0-9447-411BDEE54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E22448E-894F-4312-B1B4-CE6C4B552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1342258-5A82-458A-B0A8-0C74ECB7D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28D0A65-1388-48A9-A0D8-2D1FD9B4A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773DA5F-D4A1-447A-9E1B-90827C2FF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EB9AE32-CAEE-4C4C-94AB-03E41763B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35C7AA8-DE1A-4144-8ED5-D1E229685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8BB0323-22FF-4761-A51B-739109B9A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DCB0D51-DC18-4803-83EC-E4E8F74BB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D6D0BF3-6114-484A-B613-D06BD5BB4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4532ADD-A0F9-48CF-87FB-6D73004BE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6036BA2-51CF-4094-9460-300A2AEFF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03625-872B-4A23-A992-FAC4517DCD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C74C0-C233-4758-9219-B296F6F5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2E792-CCA3-4260-AD09-A4B535CF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08CEA-775D-4A01-9006-DFC8B24CA2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34F2AB-A30C-4B74-8B64-CA19B9015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43B08-5269-45B0-A23E-03213B93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0BDEE-F171-458A-9EAE-DF30C605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32AC11-E34E-4EFA-95A5-362E4D64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EB612F-070B-4BAD-93B8-9111FC65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AF7C1-9443-442D-BCC2-43224AB0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9A3EB-D7F8-4E60-B9DA-CD7CF0E0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84A0D-0DD9-453B-8E13-3A45B5BC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339301-3FF6-4FD7-8ECF-78837815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06439-5DD7-4928-9BE4-5E3175EF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642DC-7D31-42AD-A0EB-D7012329F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97BD64-A42A-478F-A605-4F726A82E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F4A64-C8BA-43B6-815A-BCA15BFA3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B6362-8BED-4B7B-8195-5D5556D6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942EE-3942-4BED-964C-A74361B4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F7594-54DD-406D-8DAF-72B049484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AF33E-7FB8-44D2-84C1-B0BBE1E37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116D8-D1CC-4B3C-A3E1-6F53206F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63198-4B6E-42DC-88A4-AA3796A3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5A519-40A3-4F56-902C-9D084C02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8" descr="noc_logo"/>
          <p:cNvPicPr/>
          <p:nvPr/>
        </p:nvPicPr>
        <p:blipFill>
          <a:blip r:embed="rId2"/>
          <a:srcRect l="0" t="0" r="0" b="8239"/>
          <a:stretch/>
        </p:blipFill>
        <p:spPr>
          <a:xfrm>
            <a:off x="7032600" y="282600"/>
            <a:ext cx="1984320" cy="46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661080"/>
            <a:ext cx="18288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84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005d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9D84-4B0D-4492-B017-BDCA8686F1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4"/>
          <p:cNvGrpSpPr/>
          <p:nvPr/>
        </p:nvGrpSpPr>
        <p:grpSpPr>
          <a:xfrm>
            <a:off x="4952880" y="663480"/>
            <a:ext cx="3467160" cy="612720"/>
            <a:chOff x="4952880" y="663480"/>
            <a:chExt cx="3467160" cy="612720"/>
          </a:xfrm>
        </p:grpSpPr>
        <p:sp>
          <p:nvSpPr>
            <p:cNvPr id="43" name="Freeform 45"/>
            <p:cNvSpPr/>
            <p:nvPr/>
          </p:nvSpPr>
          <p:spPr>
            <a:xfrm>
              <a:off x="4952880" y="666000"/>
              <a:ext cx="294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5213880" y="663480"/>
              <a:ext cx="23328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414040" y="666000"/>
              <a:ext cx="2347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5661360" y="666000"/>
              <a:ext cx="2113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5807160" y="666000"/>
              <a:ext cx="2890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6032520" y="666000"/>
              <a:ext cx="23724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6249240" y="663480"/>
              <a:ext cx="23472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6449400" y="666000"/>
              <a:ext cx="23580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6763320" y="664560"/>
              <a:ext cx="223560" cy="16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6938640" y="667440"/>
              <a:ext cx="231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155360" y="667440"/>
              <a:ext cx="2552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7353720" y="667440"/>
              <a:ext cx="312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7605720" y="666000"/>
              <a:ext cx="312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7848720" y="667440"/>
              <a:ext cx="24876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8102880" y="667440"/>
              <a:ext cx="29052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5329440" y="865080"/>
              <a:ext cx="3090600" cy="40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5336280" y="872280"/>
              <a:ext cx="3076560" cy="38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5953320" y="1142280"/>
              <a:ext cx="87480" cy="12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610488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623664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636192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6481440" y="1173240"/>
              <a:ext cx="694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662868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6748200" y="1173240"/>
              <a:ext cx="691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6892560" y="1171800"/>
              <a:ext cx="73440" cy="10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713304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727200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742068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764712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Freeform 74"/>
            <p:cNvSpPr/>
            <p:nvPr/>
          </p:nvSpPr>
          <p:spPr>
            <a:xfrm>
              <a:off x="7775280" y="1173240"/>
              <a:ext cx="662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Freeform 75"/>
            <p:cNvSpPr/>
            <p:nvPr/>
          </p:nvSpPr>
          <p:spPr>
            <a:xfrm>
              <a:off x="7914240" y="1173240"/>
              <a:ext cx="662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8051400" y="1173240"/>
              <a:ext cx="680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8199000" y="1173240"/>
              <a:ext cx="730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834336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BFA0-3995-49B1-8BEC-17EBBCE741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47800" y="3741480"/>
            <a:ext cx="777240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nnual Tcl/Tk Conference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tober 2008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5364360" y="525312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othy L. Tomkin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4"/>
          <p:cNvSpPr/>
          <p:nvPr/>
        </p:nvSpPr>
        <p:spPr>
          <a:xfrm>
            <a:off x="4356360" y="570384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llow Software Engine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rthrop Grumman Electronic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4"/>
          <p:cNvSpPr/>
          <p:nvPr/>
        </p:nvSpPr>
        <p:spPr>
          <a:xfrm>
            <a:off x="851040" y="2365200"/>
            <a:ext cx="77724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mote Control of Test Equipment Using Distributed Objec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fidl” package used to call share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reign Function Interface with Dynamic Load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cl extension on top of either “libffi” or “fficall”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reates Tcl commands that map to functions in shared librari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LLs (Windows) or shared objects (Un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or CO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s: Win32, NI-VISA, 1553, VME, PCI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liminates need to write Tcl extensions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orted to VxWork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s VxWorks symbol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ows direct calls to kernel and user modu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 class created for each library to provide object-orient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9D61-4CB2-4ED8-A366-D42A6A726A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 (cont’d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1143000" y="221940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1143000" y="40543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id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1758960" y="28195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143000" y="49687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1757520" y="46483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143000" y="5827680"/>
            <a:ext cx="1143000" cy="725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1757520" y="55627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F7D6B6-DA06-4641-90B7-A92DA65846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1143000" y="129528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crip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1749600" y="1889280"/>
            <a:ext cx="288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143000" y="314964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app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755720" y="3743280"/>
            <a:ext cx="180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2561040" y="137160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 scripts written in procedural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2540520" y="230040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drivers written in object-oriented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2464560" y="3214800"/>
            <a:ext cx="63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y wrappers provide OO interface to shared 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2580480" y="412920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acts as bridge between Tcl and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2666880" y="5043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d libraries: DLLs or shared objects, custom or CO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30"/>
          <p:cNvSpPr/>
          <p:nvPr/>
        </p:nvSpPr>
        <p:spPr>
          <a:xfrm>
            <a:off x="2666880" y="6033960"/>
            <a:ext cx="53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ware de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vice Driver Clas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486400" y="1969920"/>
            <a:ext cx="335268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mmand table contains method names vs. command string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itialization code creates public methods for each comman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ublic methods call the same private method to write to devic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concept used for query comma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12325-3ECF-4711-97DF-8219C82D1B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57200" y="1600200"/>
            <a:ext cx="4724280" cy="44164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73760" y="1676520"/>
            <a:ext cx="44784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PowerSupply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ckage require NiVisa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;# library wrapp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Command table (method vs. command strin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{method cmdStr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set   *R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tage VO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Create write metho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method $method {args} \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“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val handleWrite $cmdStr {$args}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Write to devi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method handleWrite {args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niVisa write $ar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Exam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voltage 5.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5"/>
          <p:cNvSpPr/>
          <p:nvPr/>
        </p:nvSpPr>
        <p:spPr>
          <a:xfrm>
            <a:off x="1447920" y="3124080"/>
            <a:ext cx="4800600" cy="29718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15"/>
          <p:cNvSpPr/>
          <p:nvPr/>
        </p:nvSpPr>
        <p:spPr>
          <a:xfrm>
            <a:off x="1447920" y="1752480"/>
            <a:ext cx="480060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D23C6-145C-4C3F-9E14-020685FEB7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09480" y="1295280"/>
            <a:ext cx="7848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Start the 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te::config –port 5000 –local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reate instance of “Remote”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remote [Remote #auto $hostname 5000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send” method to load pack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remote send “package require PowerSupply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new” method to create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ps [$remote new PowerSupply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all method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res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voltage 5.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480" y="12949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BA paradigm very easy to implement in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cl provides all necessary object-oriented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’s introspection facility eliminates need for interface definition 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 package provides robust remote procedure cal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is perfect for controlling hard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sy to call C libraries without writing Tcl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use existing device drivers, either COTS or cust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’s portability allows seamless control across multiple platfo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ed object architecture provides rapid develo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e can be tested and debugged on local P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deploy, only a few extra lines are required to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knowledge of network programming is requi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ce code does not need to be modified, any Itcl object can be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, simple, in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37FBF-E6D5-471B-87D4-2BBCC5B80B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99FC66-D870-48E4-B722-3C2C79C35A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logo_tag_placeholder"/>
          <p:cNvPicPr/>
          <p:nvPr/>
        </p:nvPicPr>
        <p:blipFill>
          <a:blip r:embed="rId1"/>
          <a:srcRect l="10568" t="2763" r="10499" b="2763"/>
          <a:stretch/>
        </p:blipFill>
        <p:spPr>
          <a:xfrm>
            <a:off x="1440" y="0"/>
            <a:ext cx="91411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720" y="14479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Controlling Complex Test St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between network no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ing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the-shelf solution using CORB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solution using distributed obje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and Ffid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137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E768-0E33-4C24-8729-92CA763C26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12193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.S. Electrical Engineering: Carnegie Mellon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.S. Computer Science: Johns Hopkins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r Force: 5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tellite Software Engine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MSP: Weather Satelli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throp Grumman: 14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mbedded, real-time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ME, CompactPC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/C+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ndows, Unix, 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hernet, GPIB, RS-232, 1553, US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, C/C++, SQ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 User: 10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CACA-8C15-4920-A3DD-50C1D0CD72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390CF2-57BF-49AB-B83C-E01200B0C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ypical Test Sta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466920" y="5345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331040" y="1981080"/>
            <a:ext cx="1195560" cy="206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1"/>
          <p:cNvSpPr/>
          <p:nvPr/>
        </p:nvSpPr>
        <p:spPr>
          <a:xfrm>
            <a:off x="5977800" y="19018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PI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2"/>
          <a:stretch/>
        </p:blipFill>
        <p:spPr>
          <a:xfrm>
            <a:off x="7702560" y="2971800"/>
            <a:ext cx="977760" cy="6541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3"/>
          <p:cNvSpPr/>
          <p:nvPr/>
        </p:nvSpPr>
        <p:spPr>
          <a:xfrm>
            <a:off x="7929000" y="35100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2412360" y="24354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743040" y="2743200"/>
            <a:ext cx="1390680" cy="846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7"/>
          <p:cNvSpPr/>
          <p:nvPr/>
        </p:nvSpPr>
        <p:spPr>
          <a:xfrm>
            <a:off x="806040" y="359424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act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4"/>
          <a:stretch/>
        </p:blipFill>
        <p:spPr>
          <a:xfrm>
            <a:off x="5759280" y="1498680"/>
            <a:ext cx="1032120" cy="4064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0"/>
          <p:cNvSpPr/>
          <p:nvPr/>
        </p:nvSpPr>
        <p:spPr>
          <a:xfrm>
            <a:off x="7551000" y="218916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5"/>
          <a:stretch/>
        </p:blipFill>
        <p:spPr>
          <a:xfrm>
            <a:off x="2209680" y="1617840"/>
            <a:ext cx="952560" cy="82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6"/>
          <a:stretch/>
        </p:blipFill>
        <p:spPr>
          <a:xfrm>
            <a:off x="304920" y="444492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"/>
          <p:cNvPicPr/>
          <p:nvPr/>
        </p:nvPicPr>
        <p:blipFill>
          <a:blip r:embed="rId7"/>
          <a:stretch/>
        </p:blipFill>
        <p:spPr>
          <a:xfrm>
            <a:off x="5638680" y="2874960"/>
            <a:ext cx="1370160" cy="102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8"/>
          <a:stretch/>
        </p:blipFill>
        <p:spPr>
          <a:xfrm>
            <a:off x="3657600" y="4684680"/>
            <a:ext cx="2027160" cy="1519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8"/>
          <p:cNvSpPr/>
          <p:nvPr/>
        </p:nvSpPr>
        <p:spPr>
          <a:xfrm>
            <a:off x="5789160" y="382284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ol P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2" descr=""/>
          <p:cNvPicPr/>
          <p:nvPr/>
        </p:nvPicPr>
        <p:blipFill>
          <a:blip r:embed="rId9"/>
          <a:stretch/>
        </p:blipFill>
        <p:spPr>
          <a:xfrm>
            <a:off x="4091040" y="1285920"/>
            <a:ext cx="1090440" cy="879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1"/>
          <p:cNvSpPr/>
          <p:nvPr/>
        </p:nvSpPr>
        <p:spPr>
          <a:xfrm>
            <a:off x="4185720" y="218916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23" descr=""/>
          <p:cNvPicPr/>
          <p:nvPr/>
        </p:nvPicPr>
        <p:blipFill>
          <a:blip r:embed="rId10"/>
          <a:stretch/>
        </p:blipFill>
        <p:spPr>
          <a:xfrm>
            <a:off x="7819920" y="4114800"/>
            <a:ext cx="717480" cy="525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3"/>
          <p:cNvSpPr/>
          <p:nvPr/>
        </p:nvSpPr>
        <p:spPr>
          <a:xfrm>
            <a:off x="7885080" y="4651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5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6" name="Straight Arrow Connector 35"/>
          <p:cNvCxnSpPr/>
          <p:nvPr/>
        </p:nvCxnSpPr>
        <p:spPr>
          <a:xfrm flipH="1" flipV="1">
            <a:off x="1414080" y="4930200"/>
            <a:ext cx="2318400" cy="415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7" name="Straight Arrow Connector 40"/>
          <p:cNvCxnSpPr/>
          <p:nvPr/>
        </p:nvCxnSpPr>
        <p:spPr>
          <a:xfrm flipH="1" flipV="1">
            <a:off x="2133000" y="3739680"/>
            <a:ext cx="1662840" cy="119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Straight Arrow Connector 42"/>
          <p:cNvCxnSpPr/>
          <p:nvPr/>
        </p:nvCxnSpPr>
        <p:spPr>
          <a:xfrm flipH="1" flipV="1">
            <a:off x="3085560" y="2648880"/>
            <a:ext cx="1005480" cy="2035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Straight Arrow Connector 45"/>
          <p:cNvCxnSpPr/>
          <p:nvPr/>
        </p:nvCxnSpPr>
        <p:spPr>
          <a:xfrm flipV="1">
            <a:off x="4669200" y="2587320"/>
            <a:ext cx="1080" cy="209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Straight Arrow Connector 50"/>
          <p:cNvCxnSpPr/>
          <p:nvPr/>
        </p:nvCxnSpPr>
        <p:spPr>
          <a:xfrm flipV="1">
            <a:off x="5409000" y="4129920"/>
            <a:ext cx="407160" cy="554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Straight Arrow Connector 56"/>
          <p:cNvCxnSpPr>
            <a:endCxn id="139" idx="2"/>
          </p:cNvCxnSpPr>
          <p:nvPr/>
        </p:nvCxnSpPr>
        <p:spPr>
          <a:xfrm flipH="1" flipV="1">
            <a:off x="6274800" y="2209680"/>
            <a:ext cx="1080" cy="66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Straight Arrow Connector 59"/>
          <p:cNvCxnSpPr/>
          <p:nvPr/>
        </p:nvCxnSpPr>
        <p:spPr>
          <a:xfrm flipV="1">
            <a:off x="7008840" y="2496240"/>
            <a:ext cx="527760" cy="43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3" name="Straight Arrow Connector 61"/>
          <p:cNvCxnSpPr>
            <a:stCxn id="153" idx="3"/>
          </p:cNvCxnSpPr>
          <p:nvPr/>
        </p:nvCxnSpPr>
        <p:spPr>
          <a:xfrm flipV="1">
            <a:off x="7008480" y="3297960"/>
            <a:ext cx="694440" cy="89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Straight Arrow Connector 64"/>
          <p:cNvCxnSpPr/>
          <p:nvPr/>
        </p:nvCxnSpPr>
        <p:spPr>
          <a:xfrm>
            <a:off x="7125840" y="3822480"/>
            <a:ext cx="577080" cy="292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TextBox 5"/>
          <p:cNvSpPr/>
          <p:nvPr/>
        </p:nvSpPr>
        <p:spPr>
          <a:xfrm>
            <a:off x="3831480" y="60768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24" descr=""/>
          <p:cNvPicPr/>
          <p:nvPr/>
        </p:nvPicPr>
        <p:blipFill>
          <a:blip r:embed="rId11"/>
          <a:stretch/>
        </p:blipFill>
        <p:spPr>
          <a:xfrm>
            <a:off x="6894360" y="4724280"/>
            <a:ext cx="801720" cy="752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5"/>
          <p:cNvSpPr/>
          <p:nvPr/>
        </p:nvSpPr>
        <p:spPr>
          <a:xfrm>
            <a:off x="7064280" y="54165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Straight Arrow Connector 86"/>
          <p:cNvCxnSpPr/>
          <p:nvPr/>
        </p:nvCxnSpPr>
        <p:spPr>
          <a:xfrm>
            <a:off x="6831000" y="4159080"/>
            <a:ext cx="295560" cy="526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7720" y="152388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custom client/server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network programming on different plat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teep learning curve on some platforms/langu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efine network protocol and message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parate code required to encapsulate and extract mess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edious to maintai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8BD8-42DA-488A-844A-41434DE662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4648320" y="4525920"/>
            <a:ext cx="2601720" cy="1523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4669920" y="4559400"/>
            <a:ext cx="255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Power Supply Messag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ssageId     msg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SupplyId ps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loat         voltage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PowerSupplyMsg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 rot="366600">
            <a:off x="4952520" y="4222440"/>
            <a:ext cx="205740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0000">
                    <a:alpha val="80000"/>
                  </a:srgbClr>
                </a:solidFill>
                <a:latin typeface="Arial Narrow"/>
              </a:rPr>
              <a:t>X</a:t>
            </a:r>
            <a:endParaRPr b="0" i="1" lang="en-US" sz="1800" spc="1" strike="noStrike">
              <a:ln w="0">
                <a:noFill/>
              </a:ln>
              <a:solidFill>
                <a:srgbClr val="cc0000">
                  <a:alpha val="80000"/>
                </a:srgbClr>
              </a:solidFill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3716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Object Request Broker Archite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tform-independent infrastructure for communicating over a net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ssages are defined using a generic Interface Definition Language (ID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L compiler generates client and server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object used to connect to server object and execute remote method ca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od arguments, return values, and exceptions are encapsulated and extracted automatically according to ID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B (Object Request Broker) provides main event loop processing and message disp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icated/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1398-8296-49F5-A6EB-51B2B43AD6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3809880" y="14479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ID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809880" y="2590920"/>
            <a:ext cx="152424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L Compi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62120" y="2209680"/>
            <a:ext cx="2438280" cy="38862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5943600" y="2209680"/>
            <a:ext cx="2438280" cy="381024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6400800" y="3886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6400800" y="274176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kelet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640080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26"/>
          <p:cNvSpPr/>
          <p:nvPr/>
        </p:nvSpPr>
        <p:spPr>
          <a:xfrm>
            <a:off x="5181480" y="3124080"/>
            <a:ext cx="12193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27"/>
          <p:cNvSpPr/>
          <p:nvPr/>
        </p:nvSpPr>
        <p:spPr>
          <a:xfrm flipV="1">
            <a:off x="4572000" y="2209680"/>
            <a:ext cx="0" cy="53352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437BF6-8FE5-4B40-B8F0-A2A9A8361A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121932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Straight Arrow Connector 19"/>
          <p:cNvCxnSpPr>
            <a:stCxn id="183" idx="0"/>
            <a:endCxn id="184" idx="2"/>
          </p:cNvCxnSpPr>
          <p:nvPr/>
        </p:nvCxnSpPr>
        <p:spPr>
          <a:xfrm flipV="1">
            <a:off x="7160040" y="3504960"/>
            <a:ext cx="3960" cy="3830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2" name="AutoShape 12"/>
          <p:cNvSpPr/>
          <p:nvPr/>
        </p:nvSpPr>
        <p:spPr>
          <a:xfrm>
            <a:off x="1219320" y="2743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3" name="Straight Arrow Connector 25"/>
          <p:cNvCxnSpPr/>
          <p:nvPr/>
        </p:nvCxnSpPr>
        <p:spPr>
          <a:xfrm flipH="1">
            <a:off x="1982520" y="3506400"/>
            <a:ext cx="2160" cy="1600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Straight Arrow Connector 29"/>
          <p:cNvCxnSpPr>
            <a:endCxn id="185" idx="2"/>
          </p:cNvCxnSpPr>
          <p:nvPr/>
        </p:nvCxnSpPr>
        <p:spPr>
          <a:xfrm>
            <a:off x="2666880" y="5524560"/>
            <a:ext cx="3734640" cy="2160"/>
          </a:xfrm>
          <a:prstGeom prst="straightConnector1">
            <a:avLst/>
          </a:prstGeom>
          <a:ln w="50760">
            <a:solidFill>
              <a:srgbClr val="0070c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195" name="Straight Arrow Connector 38"/>
          <p:cNvCxnSpPr/>
          <p:nvPr/>
        </p:nvCxnSpPr>
        <p:spPr>
          <a:xfrm>
            <a:off x="7163280" y="4648320"/>
            <a:ext cx="1080" cy="457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6" name="TextBox 39"/>
          <p:cNvSpPr/>
          <p:nvPr/>
        </p:nvSpPr>
        <p:spPr>
          <a:xfrm>
            <a:off x="4087800" y="517860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cl Distributed Objec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295280" y="1371600"/>
            <a:ext cx="243864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105520" y="1371600"/>
            <a:ext cx="243828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AB4583-7601-46D2-A277-4BFF6E7BBB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4006800" y="327672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1752480" y="1981080"/>
            <a:ext cx="1524240" cy="76212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1752480" y="32767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562720" y="327672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5" name="Straight Arrow Connector 23"/>
          <p:cNvCxnSpPr>
            <a:stCxn id="202" idx="2"/>
            <a:endCxn id="203" idx="0"/>
          </p:cNvCxnSpPr>
          <p:nvPr/>
        </p:nvCxnSpPr>
        <p:spPr>
          <a:xfrm flipH="1">
            <a:off x="2512800" y="2744640"/>
            <a:ext cx="3600" cy="5342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Straight Arrow Connector 34"/>
          <p:cNvCxnSpPr/>
          <p:nvPr/>
        </p:nvCxnSpPr>
        <p:spPr>
          <a:xfrm>
            <a:off x="3276720" y="3648240"/>
            <a:ext cx="2286720" cy="216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7" name="Straight Arrow Connector 21"/>
          <p:cNvCxnSpPr/>
          <p:nvPr/>
        </p:nvCxnSpPr>
        <p:spPr>
          <a:xfrm>
            <a:off x="3276720" y="2742840"/>
            <a:ext cx="2286720" cy="68652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8" name="AutoShape 6"/>
          <p:cNvSpPr/>
          <p:nvPr/>
        </p:nvSpPr>
        <p:spPr>
          <a:xfrm>
            <a:off x="5562720" y="198288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914400" y="4724280"/>
            <a:ext cx="754380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Remote” class manages infrastructur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arget object created on serv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 used to generate local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Local methods and procedures replaced with remote method call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perations on local object transparently executed on target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DL comp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ent and server objects created at runtime from single Itcl clas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language on both e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Network communication managed by “comm” packag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essage dispatching managed by Tcl interpret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vent loop managed by Tcl event loo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tcl class does not need to be modified to run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ther than startup code, client app is not aware that local object is running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E6BB-0184-425F-A092-2C7B4EB43B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8:39:31Z</dcterms:created>
  <dc:creator>Timothy L. Tomkinson</dc:creator>
  <dc:description/>
  <dc:language>en-US</dc:language>
  <cp:lastModifiedBy>fox</cp:lastModifiedBy>
  <dcterms:modified xsi:type="dcterms:W3CDTF">2008-10-16T17:24:36Z</dcterms:modified>
  <cp:revision>906</cp:revision>
  <dc:subject/>
  <dc:title>Remote Control of Test Equipment Using Distributed Objects</dc:title>
</cp:coreProperties>
</file>