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C0FC-E6D7-49BE-A90B-65E87E9DF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A3C3-8263-4957-BE22-7BF0474B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784C-58A0-446F-A757-24A1D127D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A34D-BBA8-4BE8-93AC-457D1D06C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2BE5B-3856-4589-B7B3-9E73535C12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83F395-2F3A-4517-8AA1-5A4637C3E6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BB0D96-B712-46EA-BF4D-806D568E4C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DE196-7F9D-4C0D-A377-A76F770D08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229FE-2B74-4D61-AD93-A132F845BC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0571C-A80A-48DC-977C-B27626F65D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E2DC7-1BDB-471A-BD31-A5BCE15B07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CCDE-C8BF-4864-B840-E8102B52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0E999D-68D9-440F-8366-3703D043FA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F9396-1229-46DE-9293-5796204405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DB4E1-9A71-482C-AA8C-9D9FA93E3C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8BE995-BE06-4F38-8E4D-3C1C0E891C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92E6BC-A30E-473F-A8D6-119873F34D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6AD4-4572-4F13-A256-E072CFE7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15A7-2119-4624-BF1E-08C10C87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B8BE-C4E2-4880-BE03-341412A4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66AC-99A0-4AF5-87D5-AC9B1C14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9341-528F-43AC-AD05-EB4AA5C8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E1DE-4C8C-4D8D-B54B-368A1E0D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F1A1-CD52-4DE1-BDEC-4A149150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4FE9-AEF9-4F4A-BEAD-A2C357731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E064-4C2A-453F-93FA-9301ABD6B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iki.tcl.tk/3099.html" TargetMode="External"/><Relationship Id="rId2" Type="http://schemas.openxmlformats.org/officeDocument/2006/relationships/hyperlink" Target="http://wiki.tcl.tk/3099.html" TargetMode="External"/><Relationship Id="rId3" Type="http://schemas.openxmlformats.org/officeDocument/2006/relationships/hyperlink" Target="http://wiki.tcl.tk/3099.html" TargetMode="External"/><Relationship Id="rId4" Type="http://schemas.openxmlformats.org/officeDocument/2006/relationships/hyperlink" Target="http://wiki.tcl.tk/3099.html" TargetMode="External"/><Relationship Id="rId5" Type="http://schemas.openxmlformats.org/officeDocument/2006/relationships/hyperlink" Target="http://wiki.tcl.tk/3099.html" TargetMode="External"/><Relationship Id="rId6" Type="http://schemas.openxmlformats.org/officeDocument/2006/relationships/hyperlink" Target="http://wiki.tcl.tk/3099.html" TargetMode="External"/><Relationship Id="rId7" Type="http://schemas.openxmlformats.org/officeDocument/2006/relationships/hyperlink" Target="http://wiki.tcl.tk/3099.html" TargetMode="External"/><Relationship Id="rId8" Type="http://schemas.openxmlformats.org/officeDocument/2006/relationships/hyperlink" Target="http://www.tcl.tk/man/tcl8.4/" TargetMode="External"/><Relationship Id="rId9" Type="http://schemas.openxmlformats.org/officeDocument/2006/relationships/hyperlink" Target="http://www.tcl.tk/man/tcl8.4/" TargetMode="External"/><Relationship Id="rId10" Type="http://schemas.openxmlformats.org/officeDocument/2006/relationships/hyperlink" Target="http://www.tcl.tk/man/tcl8.4/" TargetMode="External"/><Relationship Id="rId11" Type="http://schemas.openxmlformats.org/officeDocument/2006/relationships/hyperlink" Target="http://www.tcl.tk/man/tcl8.4/" TargetMode="External"/><Relationship Id="rId12" Type="http://schemas.openxmlformats.org/officeDocument/2006/relationships/hyperlink" Target="http://www.tcl.tk/man/tcl8.4/" TargetMode="External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ki.tcl.tk/1611.html" TargetMode="External"/><Relationship Id="rId2" Type="http://schemas.openxmlformats.org/officeDocument/2006/relationships/hyperlink" Target="http://wiki.tcl.tk/vfs" TargetMode="External"/><Relationship Id="rId3" Type="http://schemas.openxmlformats.org/officeDocument/2006/relationships/hyperlink" Target="http://wiki.tcl.tk/vf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izes on 32-bit opera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rename |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enter | leave | enterstep | leav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array | read | write |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style trace command depre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labelframe" descr=""/>
          <p:cNvPicPr/>
          <p:nvPr/>
        </p:nvPicPr>
        <p:blipFill>
          <a:blip r:embed="rId1"/>
          <a:stretch/>
        </p:blipFill>
        <p:spPr>
          <a:xfrm>
            <a:off x="1143000" y="5257800"/>
            <a:ext cx="1393920" cy="1303200"/>
          </a:xfrm>
          <a:prstGeom prst="rect">
            <a:avLst/>
          </a:prstGeom>
          <a:ln w="0">
            <a:noFill/>
          </a:ln>
        </p:spPr>
      </p:pic>
      <p:pic>
        <p:nvPicPr>
          <p:cNvPr id="227" name="panedwindow" descr=""/>
          <p:cNvPicPr/>
          <p:nvPr/>
        </p:nvPicPr>
        <p:blipFill>
          <a:blip r:embed="rId2"/>
          <a:srcRect l="2608" t="37648" r="3123" b="13154"/>
          <a:stretch/>
        </p:blipFill>
        <p:spPr>
          <a:xfrm>
            <a:off x="6718320" y="3200400"/>
            <a:ext cx="2295360" cy="1709640"/>
          </a:xfrm>
          <a:prstGeom prst="rect">
            <a:avLst/>
          </a:prstGeom>
          <a:ln w="0">
            <a:noFill/>
          </a:ln>
        </p:spPr>
      </p:pic>
      <p:pic>
        <p:nvPicPr>
          <p:cNvPr id="228" name="spinbox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9493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windowing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distinguish between Xlib and native A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hange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ki Changes in Tcl/Tk 8.4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wik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/3099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cal mode wiki on the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 Change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0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1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2"/>
              </a:rPr>
              <a:t>/man/tcl8.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tails in BoF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Boo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941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ing soon to a store nea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lch 4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lynt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bookcover" descr=""/>
          <p:cNvPicPr/>
          <p:nvPr/>
        </p:nvPicPr>
        <p:blipFill>
          <a:blip r:embed="rId1"/>
          <a:stretch/>
        </p:blipFill>
        <p:spPr>
          <a:xfrm>
            <a:off x="3627360" y="990720"/>
            <a:ext cx="4830840" cy="52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Tcl and Tclkit b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ver 2 years in the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iki.tcl.tk/161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http://wiki.tcl.tk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v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fication of the C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incompatible – with a compatability 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2-09-11T16:00:26Z</dcterms:modified>
  <cp:revision>416</cp:revision>
  <dc:subject/>
  <dc:title>8.4 Tcl Overview</dc:title>
</cp:coreProperties>
</file>