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7B79-AFB2-4BE2-B57E-9937438EB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17D3-3B83-4ABC-B26D-E4BC918F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FC33-5BE1-4E61-9190-C724A9D74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FE9A-9179-4458-B2C7-E104577C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5CAB-49DE-498A-8706-F6FC821C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77F3-2EAE-4E87-9ADE-049C6690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7F83-B7CF-4114-8D95-E274D676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07BB-7056-4D4D-B125-1F6192E6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CF56B-49E6-429A-83C5-A4A94B71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1178-FAB2-4009-904D-9E8C25F3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9D37-44B1-4F0C-B5FE-EB0F4F14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2C2B-5295-4D1E-8DA1-E9A3104A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950A-F66E-4AC7-B919-21C6DAF1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0FDDE-57A3-456C-98FB-CDE32C29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1E7C-3FAF-45D9-AD8F-CCA55C73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67C66-79D2-4F7C-837D-82652954A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5AAA-2A34-49A9-8555-E2EE4BEA6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ED6-BD06-41BA-8287-71C828DE0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1ACA-5C46-41A0-B58E-4ADE04ED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B75D-1EBA-4A4F-9BC7-86F37469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D2F-18A3-4ADC-9B6D-2A3CFFFA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B828-57D9-414A-AD72-90310DA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9ED-DF92-4C5A-81DA-095C7423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003B-6D3C-4141-A9A3-CC17AF75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981C-AA00-442F-98D6-083BB8D79AF2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F1E6-F3B8-49F3-82EF-187911F31BC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600"/>
            <a:ext cx="822636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Pulling Out All the Stop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2000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pplication of Tcl user extensions in a high performance multi-threaded electronic design applic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by Phil Brooks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267080" y="1599840"/>
            <a:ext cx="3735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Byte Cod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3  perim_co(S,G)  perim_in(S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2  temp3  perim_co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DD   temp1  temp2  perim_in(D,G)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w  0.5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DIV   l  area(G)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NE    bends(G)  0 [31]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T    w  l [37] [55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w  w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GOTO [70]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2  0.5  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MUL   temp1  temp2  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SUB   l  l  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HALT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040" y="1751040"/>
            <a:ext cx="37353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riable Name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eaeaea"/>
                </a:solidFill>
                <a:uFillTx/>
                <a:latin typeface="Arial"/>
              </a:rPr>
              <a:t>Value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1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temp3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0.0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S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co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4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perim_in(D,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6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rea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1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bends(G)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 2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567240" y="3314880"/>
            <a:ext cx="1895400" cy="134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254320" y="3789360"/>
            <a:ext cx="2568600" cy="885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8320" y="2286000"/>
            <a:ext cx="958680" cy="2101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50040" y="4205160"/>
            <a:ext cx="536400" cy="455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44600" y="3808440"/>
            <a:ext cx="0" cy="8413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55760" y="3794040"/>
            <a:ext cx="13129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569760" y="3322800"/>
            <a:ext cx="3240" cy="4744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43160" y="4665600"/>
            <a:ext cx="3732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325680"/>
            <a:ext cx="105912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648320" y="2303640"/>
            <a:ext cx="0" cy="10220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648320" y="2297160"/>
            <a:ext cx="9525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00880" y="2297160"/>
            <a:ext cx="0" cy="1896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75000" y="2708280"/>
            <a:ext cx="1622520" cy="2365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809880" y="3013200"/>
            <a:ext cx="235080" cy="19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841480" y="3435480"/>
            <a:ext cx="235080" cy="1539720"/>
          </a:xfrm>
          <a:prstGeom prst="rect">
            <a:avLst/>
          </a:prstGeom>
          <a:solidFill>
            <a:srgbClr val="ff990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31300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1,P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59080" y="4167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2,P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44960" y="3986280"/>
            <a:ext cx="567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4,P4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53160" y="2430360"/>
            <a:ext cx="56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A3,P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809800" y="513252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773520" y="5586480"/>
            <a:ext cx="34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464160" y="2687760"/>
            <a:ext cx="333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L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0040" y="5032440"/>
            <a:ext cx="0" cy="376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73320" y="5032440"/>
            <a:ext cx="1800" cy="371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840040" y="51339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816360" y="560376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345360" y="26971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54720" y="2927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6443640" y="2700360"/>
            <a:ext cx="0" cy="217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4154400" y="3338640"/>
            <a:ext cx="0" cy="131256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2766960" y="3798720"/>
            <a:ext cx="0" cy="8524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56240" y="3051000"/>
            <a:ext cx="93492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41600" y="39528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91040" y="389412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935600" y="3051000"/>
            <a:ext cx="41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3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398680" y="3962520"/>
            <a:ext cx="167400" cy="185400"/>
            <a:chOff x="2398680" y="3962520"/>
            <a:chExt cx="167400" cy="185400"/>
          </a:xfrm>
        </p:grpSpPr>
        <p:sp>
          <p:nvSpPr>
            <p:cNvPr id="271" name=""/>
            <p:cNvSpPr/>
            <p:nvPr/>
          </p:nvSpPr>
          <p:spPr>
            <a:xfrm>
              <a:off x="2398680" y="39625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2404080" y="39690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398680" y="39679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3452760" y="3922560"/>
            <a:ext cx="167400" cy="185400"/>
            <a:chOff x="3452760" y="3922560"/>
            <a:chExt cx="167400" cy="185400"/>
          </a:xfrm>
        </p:grpSpPr>
        <p:sp>
          <p:nvSpPr>
            <p:cNvPr id="275" name=""/>
            <p:cNvSpPr/>
            <p:nvPr/>
          </p:nvSpPr>
          <p:spPr>
            <a:xfrm>
              <a:off x="3452760" y="392256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3458160" y="392904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52760" y="392796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2873520" y="4761000"/>
            <a:ext cx="167760" cy="185400"/>
            <a:chOff x="2873520" y="4761000"/>
            <a:chExt cx="167760" cy="185400"/>
          </a:xfrm>
        </p:grpSpPr>
        <p:sp>
          <p:nvSpPr>
            <p:cNvPr id="279" name=""/>
            <p:cNvSpPr/>
            <p:nvPr/>
          </p:nvSpPr>
          <p:spPr>
            <a:xfrm>
              <a:off x="2873520" y="4761000"/>
              <a:ext cx="16524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879280" y="4767480"/>
              <a:ext cx="15912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74240" y="4766400"/>
              <a:ext cx="16704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929120" y="3571920"/>
            <a:ext cx="167400" cy="185400"/>
            <a:chOff x="4929120" y="3571920"/>
            <a:chExt cx="167400" cy="185400"/>
          </a:xfrm>
        </p:grpSpPr>
        <p:sp>
          <p:nvSpPr>
            <p:cNvPr id="283" name=""/>
            <p:cNvSpPr/>
            <p:nvPr/>
          </p:nvSpPr>
          <p:spPr>
            <a:xfrm>
              <a:off x="4929120" y="357192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4934520" y="357840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29120" y="357732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3848040" y="4761000"/>
            <a:ext cx="167400" cy="185400"/>
            <a:chOff x="3848040" y="4761000"/>
            <a:chExt cx="167400" cy="185400"/>
          </a:xfrm>
        </p:grpSpPr>
        <p:sp>
          <p:nvSpPr>
            <p:cNvPr id="287" name=""/>
            <p:cNvSpPr/>
            <p:nvPr/>
          </p:nvSpPr>
          <p:spPr>
            <a:xfrm>
              <a:off x="3848040" y="476100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3853440" y="476748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48040" y="476640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335480" y="2733840"/>
            <a:ext cx="167760" cy="185040"/>
            <a:chOff x="4335480" y="2733840"/>
            <a:chExt cx="167760" cy="185040"/>
          </a:xfrm>
        </p:grpSpPr>
        <p:sp>
          <p:nvSpPr>
            <p:cNvPr id="291" name=""/>
            <p:cNvSpPr/>
            <p:nvPr/>
          </p:nvSpPr>
          <p:spPr>
            <a:xfrm>
              <a:off x="4335480" y="2733840"/>
              <a:ext cx="165240" cy="1796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341240" y="2740320"/>
              <a:ext cx="159120" cy="1731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36200" y="2739240"/>
              <a:ext cx="167040" cy="1796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5364000" y="2398680"/>
            <a:ext cx="167400" cy="185400"/>
            <a:chOff x="5364000" y="2398680"/>
            <a:chExt cx="167400" cy="185400"/>
          </a:xfrm>
        </p:grpSpPr>
        <p:sp>
          <p:nvSpPr>
            <p:cNvPr id="295" name=""/>
            <p:cNvSpPr/>
            <p:nvPr/>
          </p:nvSpPr>
          <p:spPr>
            <a:xfrm>
              <a:off x="5364000" y="2398680"/>
              <a:ext cx="165600" cy="18000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369400" y="2405160"/>
              <a:ext cx="159480" cy="1735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364000" y="2404080"/>
              <a:ext cx="167400" cy="1800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252520" y="4954680"/>
            <a:ext cx="0" cy="839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254320" y="5127480"/>
            <a:ext cx="5842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3089160" y="5133960"/>
            <a:ext cx="2463840" cy="64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471920" y="504180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386080" y="5110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1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68360" y="5600880"/>
            <a:ext cx="156060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14920" y="545940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051440" y="5457960"/>
            <a:ext cx="1440" cy="2919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067280" y="5516640"/>
            <a:ext cx="152064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587920" y="4878360"/>
            <a:ext cx="0" cy="839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851200" y="55818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772160" y="540396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6450120" y="2300040"/>
            <a:ext cx="0" cy="39852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775480" y="2308320"/>
            <a:ext cx="7966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450120" y="2916000"/>
            <a:ext cx="0" cy="173988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386400" y="238932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5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402240" y="3675240"/>
            <a:ext cx="42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6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89200" y="3179880"/>
            <a:ext cx="228600" cy="144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3580920" y="3067200"/>
            <a:ext cx="1800" cy="164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02080" y="287820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3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4521240" y="3327120"/>
            <a:ext cx="0" cy="46044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456080" y="378288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2124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525920" y="3903840"/>
            <a:ext cx="44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497480" y="339552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335640" y="464652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602320" y="4202280"/>
            <a:ext cx="38736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989680" y="4208400"/>
            <a:ext cx="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5608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4521240" y="42321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5920" y="4351320"/>
            <a:ext cx="52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2’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244680" y="377496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170160" y="4221000"/>
            <a:ext cx="233280" cy="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087720" y="3871800"/>
            <a:ext cx="51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244680" y="4222800"/>
            <a:ext cx="0" cy="449280"/>
          </a:xfrm>
          <a:prstGeom prst="line">
            <a:avLst/>
          </a:prstGeom>
          <a:ln w="9360">
            <a:solidFill>
              <a:srgbClr val="eaeaea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173400" y="4338720"/>
            <a:ext cx="51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  <a:ea typeface="PMingLiU"/>
              </a:rPr>
              <a:t>W1’’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089160" y="5324400"/>
            <a:ext cx="288288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969160" y="4875120"/>
            <a:ext cx="6120" cy="8431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249800" y="521352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2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064040" y="5681520"/>
            <a:ext cx="1917720" cy="0"/>
          </a:xfrm>
          <a:prstGeom prst="line">
            <a:avLst/>
          </a:prstGeom>
          <a:ln w="9360">
            <a:solidFill>
              <a:srgbClr val="ff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24440" y="5556240"/>
            <a:ext cx="42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PMingLiU"/>
              </a:rPr>
              <a:t>S4”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33720" y="152388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nclosure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mplex measu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 simple number represent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mation capability requir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W /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UM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S::W / (S::A + 0.5*L) ) - 0.5*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aching the Limits of Built-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um functionality satisfied specific requiremen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on a more general solution was need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in/max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rbitrary calculations on array elemen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 more complex measurement arra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ulti Finger Enclosure measureme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Scripting Language Requirement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5400" y="1598400"/>
            <a:ext cx="822636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scribe data collection prior to execu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language data retrieval function configures data collection algorithm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verage existing Built-in script engi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ustomers have extensive existing usag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ilt-in engine has 31 data collection routin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data collected to the scri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Get calculated results back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Overall Performance can’t slow down too muc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alibre already has Tcl interfaces inside our geometric manipulatio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dd a function interface to the Built-in language – TVF_NUMERIC_FUNCTION 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(TVF_NUM_FUN for short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ows calling a Tcl Function from within the Built-in langu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371600"/>
            <a:ext cx="8226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, SEFF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S,G) +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erim_in(S,G) + perim_co(D,G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D,G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G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G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- 0.5 * bends(G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- 0.5 * bends(G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 = ENC_PER (PGATE, DIFF, SD, 25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FFA = TVF_NUM_FUN (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calc_eff_a"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"device_func ", S,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How Tcl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TVF FUNCTION device_func [/*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c calc_eff_a { enc W L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... tcl code ..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*/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alibre Design Verificat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ntegrated Circuit Desig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427720" y="1295280"/>
            <a:ext cx="3716280" cy="48769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57200" y="2895480"/>
            <a:ext cx="82263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ometric Analysis Too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Requirements Check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cribe data collection before script run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xisting built-in script engine still provides the data collection function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Leverage existing script engine and customer scrip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dd Tcl calls to Existing built-in scrip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ollected to Tc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unction call arguments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Get data calculations back to Calibr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Return values of Tcl functions called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81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verall Performance go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erformance Testing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est Circuits: Emphasize scripting language performance (not a real world test cas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00,000 devices that run through the calculation script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3 Builtin-&gt;Tcl calls for each device (1.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10 Tcl-&gt;Calibre object callbacks (5 million total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alistic Device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Partitions into 18 equal partitions for Multi-Threaded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an be expressed as Tcl function or Built-In SUM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call interface to choose: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Ex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Tcl_EvalObjv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579096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752480" y="1219320"/>
            <a:ext cx="5943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Efficiently Calling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of Tcl_EvalObjEx didn’t differ significantly from Tcl_EvalObjv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rgument Hand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t up as much as possible before execution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Data passed through objects (Tcl_CreateObjCommand) to avoid construction of argument object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Getting Back to C++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ssed back through a Tcl_DoubleObj set as the “result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cl handles the result objects efficiently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ware the use of expr without {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hanging expr { ... } to expr ..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reduced performance by 300%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nsider object interfaces that do the bookkeeping operations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set slice_count [ $enc slice_count 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or { set i 0 } { $i&lt;$slice_count } { incr i }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lice specific code here uses index $i to access data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from the $enc command object by passing it in as an argument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ayout vs. Schematic (LVS)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chematic – log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ayout – physical design of a circu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LVS makes sure Layout and Schematic designs describe the same circuit by comparing th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Consider this interface where the $enc object performs index calculations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firs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while { $i &gt; 0 }  {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slice specific code here index is implicit $enc will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# access data from the current array slice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set i [ $enc next_slice ]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Or, if you want to get fancy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$rtval = $enc eval 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# some sort of code that executes once for each slic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riting Efficient Tc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594360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ata is partitioned for parallel execut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ecognizes devices independently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Each thread runs its own copy of the built-in language engin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How do threads perform with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etter to use MT Tcl or Single Threaded Tcl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Thread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1752480" y="1447920"/>
            <a:ext cx="579132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"/>
              </a:rPr>
              <a:t>Final Performance Numbers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al chips showed no increase in required CPU time for Device Recogni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evice Recogni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vice Recognition allows the user to turn geometric shapes from the layout into logical device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3124080" cy="23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959120" y="0"/>
            <a:ext cx="522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Sim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High Performanc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mpiled interpreted user progra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rogram configures data collection before execution star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Very limited capabiliti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no loops, no alloc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just data collection, arithmetic, and conditional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ta and temporary variables are pre-allocat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yte code runs for each device that is recognized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92468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DEVICE MP PGATE PGATE(G) SD(S) SD(D) DIFF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[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roperty w,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0.5 * ( perim_co( S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S, G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co( D, G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+ perim_in( D, G ) 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l = area( G ) /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( bends( G ) != 0 ))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if( w &gt; l )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w = w – 0.5 * bends( G ) * l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else l = l – 0.5 * bends( G ) * w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t-in Script Languag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11:59Z</dcterms:created>
  <dc:creator>Phil Brooks</dc:creator>
  <dc:description/>
  <dc:language>en-US</dc:language>
  <cp:lastModifiedBy>Phil Brooks</cp:lastModifiedBy>
  <dcterms:modified xsi:type="dcterms:W3CDTF">2005-10-27T00:10:55Z</dcterms:modified>
  <cp:revision>4</cp:revision>
  <dc:subject/>
  <dc:title>Pulling Out All the Stops</dc:title>
</cp:coreProperties>
</file>