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F104-74C3-4D98-B2D7-9B82A1EE8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8F87-173F-472C-9A25-F9ECC27E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7AE1-9B4C-44CD-90D6-80C6A547C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01AB-1335-4DC9-9FD0-CE56EEEDA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C0F0-53B6-48B1-ACCB-CE7E20ED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17F-2F45-4E72-8531-C6AC5C95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BF98-D68E-4B2A-9832-E5D385FE1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38A6-F4A8-4F4E-BF27-5B77842A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4EA-5E97-437E-B1A4-359D7B06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7F5-CE31-42B5-9EFC-EEEC0269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8EA1-DAE6-48BD-A871-CA110948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E95C-07EF-462B-BBCD-CA8F16FB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A93D-A6C6-44A2-9FAF-6A1E86128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dataserv.fis.fc.ul.pt/~jmal" TargetMode="Externa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5400" spc="-1" strike="noStrike">
                <a:solidFill>
                  <a:srgbClr val="000000"/>
                </a:solidFill>
                <a:latin typeface="Arial"/>
              </a:rPr>
              <a:t>CanvasPl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Arial"/>
              </a:rPr>
              <a:t>An Improved Modular Canvas implementation for 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modetest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canvas_interp [.c setmode mode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{create rectangle 10 10 130 60 -fill red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$canvas_interp eval $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set script [gets $f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load ./libCanvasPlus.so; load ./modetest.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C [canvas+ .c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I [$C setmode modetes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I eval {set moving 0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Press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ButtonRelease-1&gt; picOrDr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C bind all &lt;Motion&gt; 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move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move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@puts move $_I_ $prevX $prevY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prevX $_X_; set prevY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proc picOrDrop {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$::I eval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f { $moving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0; @puts dro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set moving 1; set prevX $_X_; set prevY $_Y_; @puts pic $_X_ $_Y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RegisterInfo _info[]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puts", puts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rect", rect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elipse", arc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ENTRY("@move", movePro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LAST_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static CP_ModeOps _operations =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alloc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it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free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drawPro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losest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67480" y="344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2349360"/>
            <a:ext cx="7058160" cy="41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struct CP_RegisterInfo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proc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cl_ObjCmdProc *func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har *cfna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 CP_RegisterInf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lientData CP_AllocProc(CanvasPlus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int CP_InitProc(CP_Mode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FreeProc(ClientDat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void CP_DrawProc(ClientData, CP_DrawOps *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Area *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typedef CP_Item *CP_ClosestProc(ClientDa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CP_Point *, doubl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 ON “load ./setmode.so” INV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nt Modetest_Init(Tcl_Interp *inter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if ( CPDefineMode("modetest1", _info,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&amp;_operations)!=TCL_OK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return TCL_O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Extension writter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6407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 ON “.c setmode &lt;modename&gt;” INV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int CPSetMode(CanvasPlus *cPtr, Tcl_Obj *intName, Tcl_Obj *modeNam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Info *modeInf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CP_Mode *mo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// Create and initialize mod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Info = CPFindMode(Tcl_GetString(modeNam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600" spc="-1" strike="noStrike">
                <a:solidFill>
                  <a:srgbClr val="000000"/>
                </a:solidFill>
                <a:latin typeface="Courier New"/>
              </a:rPr>
              <a:t>mode = (CP_Mode *)ckalloc((size_t)sizeof(CP_Mode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tatic void drawProc(ClientData cd, CP_DrawOps *ops, CP_Area *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MStatus *status = (MStatus *)cd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P_Item *item = status-&gt;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while (item != NULL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Type type = (ItemType)item-&gt;clientDat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ARC_ITEM: {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ArcItem *arc = (Arc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Elipse(ops-&gt;clientData, &amp;arc-&gt;limits,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case RECT_ITEM: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RectItem *rect = (RectItem *)item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 &amp;rect-&gt;limits, CP_DRAW_FILLE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lectPen(ops-&gt;clientData, 0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setPenWidth(ops-&gt;clientData, 1.5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ops-&gt;drawRectangle(ops-&gt;clientDat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&amp;rect-&gt;limits, CP_DRAW_OUTLIN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item = item-&gt;nex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ems are managed by extension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only the extension knows how to draw its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f an event needs to know some details about the item to be properly handled, the extension must register a h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he core module keeps its own item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pecific data is refered by an opaque poi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used for tag managment and bind comm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Item mana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Extensions make no assumptions about the device they are drawing 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rawing is performed through the </a:t>
            </a:r>
            <a:r>
              <a:rPr b="1" lang="pt-PT" sz="3200" spc="-1" strike="noStrike">
                <a:solidFill>
                  <a:srgbClr val="000000"/>
                </a:solidFill>
                <a:latin typeface="Courier New"/>
              </a:rPr>
              <a:t>drawOps</a:t>
            </a: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insures portability between different platforms and different output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ll dimensions used in extensions are physical meaningful and have no relation to pixe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is make the user aware of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</a:rPr>
              <a:t>printing size</a:t>
            </a: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’s in alpha status, but it 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It will be available soon...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pt-PT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kdataserv.fis.fc.ul.pt/~j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...it is available in my laptop, if you don’t want to wait until I find the time to update my web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2276280"/>
            <a:ext cx="822960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Arial"/>
              </a:rPr>
              <a:t>Thanks for your atten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jlima@eso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Tk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drawing possible but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 was not meant to handle complex 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through tagging helps creating relationships between items, but this alone doesn’t overcome all the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advanced GUI libraries are available but ... they have no Tc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an alternative canvas for Tk, targetted for layered 2D drawing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n’t a replacement for the standard can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s are supposed to be coded in C/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guration and GUI construction is supposed to be done in 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ar appro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module: provides generic drawing operations; event dispa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ing applications specific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How the parts fit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1289160"/>
            <a:ext cx="64818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e Mo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an AP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ing primitives in a 2D layered canvas abstr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delegating event handling: through hook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aningful coordinat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output devices aw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mless zoom, pan (for display dev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caling an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ssumptions about the items to be dra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Layered Canv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work much like superimposed overhead projection sh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Each has its own appearence: color; trace and and area filling proper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Layers can be hiden or shown individua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It is a simple concep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The layers are meaningful to broad class of drawing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lectronic layout ed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</a:rPr>
              <a:t>Straightforward and memory efficient implementation using X graphic contex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200" spc="-1" strike="noStrike">
                <a:solidFill>
                  <a:srgbClr val="000000"/>
                </a:solidFill>
                <a:latin typeface="Arial"/>
              </a:rPr>
              <a:t>Still suppo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Partly obso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Still usefull for context help or context men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Arial"/>
              </a:rPr>
              <a:t>Tagging code imported from standard Tk canva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What’s n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concept of </a:t>
            </a:r>
            <a:r>
              <a:rPr b="0" i="1" lang="pt-PT" sz="2800" spc="-1" strike="noStrike">
                <a:solidFill>
                  <a:srgbClr val="000000"/>
                </a:solidFill>
                <a:latin typeface="Arial"/>
              </a:rPr>
              <a:t>operation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The subcommand approach is used only for few, very generic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nteraction with items is done using a slave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The slave is returned by </a:t>
            </a:r>
            <a:r>
              <a:rPr b="1" lang="pt-PT" sz="2400" spc="-1" strike="noStrike">
                <a:solidFill>
                  <a:srgbClr val="000000"/>
                </a:solidFill>
                <a:latin typeface="Courier New"/>
              </a:rPr>
              <a:t>“.c setmode”</a:t>
            </a: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</a:rPr>
              <a:t>State is accessible through global variables in the dedicated slave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Items can be much more complex than a simple rectangle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Arial"/>
              </a:rPr>
              <a:t>CanvasPlus widget us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load ./libCanvasPlus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canvas+ .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.c subcommand 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7080" y="2852640"/>
            <a:ext cx="7953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Arial"/>
              </a:rPr>
              <a:t>Available subcommand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bind, cget, clearmode, configure, get, modes, p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ourier New"/>
              </a:rPr>
              <a:t>redraw, setmode, xview, yview and zo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7:05:43Z</dcterms:created>
  <dc:creator>Nome de utilizador</dc:creator>
  <dc:description/>
  <dc:language>en-US</dc:language>
  <cp:lastModifiedBy>Nome de utilizador</cp:lastModifiedBy>
  <dcterms:modified xsi:type="dcterms:W3CDTF">2005-10-26T18:06:36Z</dcterms:modified>
  <cp:revision>21</cp:revision>
  <dc:subject/>
  <dc:title>CanvasPlus</dc:title>
</cp:coreProperties>
</file>