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606679"/>
        <c:axId val="25543343"/>
      </c:barChart>
      <c:catAx>
        <c:axId val="12606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43343"/>
        <c:crosses val="autoZero"/>
        <c:auto val="1"/>
        <c:lblAlgn val="ctr"/>
        <c:lblOffset val="100"/>
        <c:noMultiLvlLbl val="0"/>
      </c:catAx>
      <c:valAx>
        <c:axId val="25543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06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B61-BA0F-49ED-98FB-DA2CBFAA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B00B-51D6-4449-AB37-163544AA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0B90-77EA-41D0-864B-51CE5F4F9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AA3-A515-4CC9-A1CE-BCED83886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32D-7F33-4F52-907E-467F0508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994-259E-47A8-8583-AAAB0CF9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125C-8C96-49DA-B12D-D6B4722F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C597-8AF7-426F-8FE4-8698E0DD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45C-D156-4465-BA4D-CFC49783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8B0-5D56-43E2-BB34-220E1E9B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D33D-AD58-4400-A614-3151B27F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0D0-79D1-4054-9D5C-09F84835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95228-F7E7-40FC-B16C-2886A58DA4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