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52271"/>
        <c:axId val="89877701"/>
      </c:barChart>
      <c:catAx>
        <c:axId val="43552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77701"/>
        <c:crosses val="autoZero"/>
        <c:auto val="1"/>
        <c:lblAlgn val="ctr"/>
        <c:lblOffset val="100"/>
        <c:noMultiLvlLbl val="0"/>
      </c:catAx>
      <c:valAx>
        <c:axId val="89877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52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787-298E-4454-950F-D112038C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A0C-1769-4246-9CE1-6C8DDAB6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0A3-E578-4325-98CC-A5EDDC6EA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743-50A7-40A2-A8E1-D5F8C012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7A47-712C-4C18-8F45-0008DE6E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E6DE-8DED-4F7F-8923-23CFFF53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A4C2-1010-40FA-839A-6417CA05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BD9E-BF09-418C-8CE8-AED701D9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13B-6CCC-4162-83D7-D9B5C33F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917-2464-44A1-94A0-CC1F66B5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C14D-FC7C-40D8-8732-3C67E3A3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5ED-A010-4632-BCEB-B296825C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5041A-F11A-4E88-B224-E53576392D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