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31213"/>
        <c:axId val="34253026"/>
      </c:barChart>
      <c:catAx>
        <c:axId val="45231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53026"/>
        <c:crosses val="autoZero"/>
        <c:auto val="1"/>
        <c:lblAlgn val="ctr"/>
        <c:lblOffset val="100"/>
        <c:noMultiLvlLbl val="0"/>
      </c:catAx>
      <c:valAx>
        <c:axId val="34253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31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6DB7-A9CD-4DC5-920A-ACB67F43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0DA-DD2C-4FD0-9047-520FDD2A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DE7-AB8D-4932-8A40-42428F8C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154-41B7-44ED-942B-FAF245A4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B84-8A0F-47DE-84F0-8BBF00C4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1D1-3E76-44AC-8CBC-49316CC4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688-A277-47A6-B46B-D906FFD2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631-3F74-4911-80FC-D111D181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1CE-87C6-4FB4-9F87-B816ABB0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D726-8198-42B7-9217-3A3A9B59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238-D374-4BF1-ADE9-E6EB22DF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156-7EA1-484B-971D-9C0D8879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21E76-9320-40C9-96B1-7F1CC96444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