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5876051"/>
        <c:axId val="95107851"/>
      </c:barChart>
      <c:catAx>
        <c:axId val="9587605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107851"/>
        <c:crosses val="autoZero"/>
        <c:auto val="1"/>
        <c:lblAlgn val="ctr"/>
        <c:lblOffset val="100"/>
        <c:noMultiLvlLbl val="0"/>
      </c:catAx>
      <c:valAx>
        <c:axId val="9510785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87605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259C-1BA5-4011-A9BE-50408CF54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08F3-3736-4870-B8F9-E5417D919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0AA9-AF5A-449C-9680-1ABD4107A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8A3C-ED77-4759-B534-4E3B04E73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9FCC-0715-46CE-BC71-6F65D4E22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F196-EB14-4730-A351-16084126A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30A6-E5A7-4FBE-8AA2-D53EAF852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8711-624B-4D9B-BE65-50F8CA5BF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B197-CD6C-4B32-ABDB-1DDEE3F63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3B38-661E-48D9-B5DB-EE7E283F1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65E8-1F3A-48E0-9BC0-95409F5AD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A094-1644-4B61-B160-C9C0FFA36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774C3D-FD9D-45E9-B456-92F98FF9BCE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