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83792"/>
        <c:axId val="90368114"/>
      </c:barChart>
      <c:catAx>
        <c:axId val="32683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68114"/>
        <c:crosses val="autoZero"/>
        <c:auto val="1"/>
        <c:lblAlgn val="ctr"/>
        <c:lblOffset val="100"/>
        <c:noMultiLvlLbl val="0"/>
      </c:catAx>
      <c:valAx>
        <c:axId val="90368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83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AD3-DBFC-4345-A760-97A5E059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A96-E081-43A3-AA43-D1C4F5AD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DE3-CC92-4C17-84A0-AE30B529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3BA-7FC8-44BB-B3A3-D9D52EC2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8EA-B94B-433D-A2C1-8F05E4F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864-05FF-4862-81E7-4372E626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A61-DBBB-4224-B41B-92DA7F13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61F-2100-4942-B429-7F8B0C4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E61-F55F-4C1F-9711-A4F4F213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5829-5ECB-4F72-822B-EB8B12EC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129-AF98-4A7E-94C8-CCFC3631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BD4-A479-40E1-B3B6-2B9EA5B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9C804-90C7-4C56-B80F-454E88AAF2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