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8C0-64EC-4628-9AEC-A233ACA5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B87-C29F-42D0-BB28-EE522E91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60D-1222-4DEF-B005-110F9BC8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EB2-4431-4503-B3ED-F62F0A2C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8D1-DE1A-4B08-BD77-25F686AB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DD1-EEA9-431E-9789-46011400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407-F0F5-45F8-A1B7-7B965A56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830-B6D1-499E-88D9-3D819088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B2D-97F6-4A73-9B91-0BCAC63A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A20-9811-4E23-99F1-0527D685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AF2-76AE-48C2-B548-D6CF7000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4D0-15AA-4EF8-BBC4-55E114C7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2409-BBCA-44F1-89A7-A4004E742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rtgage-site-tools.com/products/" TargetMode="External"/><Relationship Id="rId2" Type="http://schemas.openxmlformats.org/officeDocument/2006/relationships/hyperlink" Target="http://www.mortgage-site-tools.com/products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f0f"/>
                </a:solidFill>
                <a:latin typeface="Arial"/>
              </a:rPr>
              <a:t>Online mortgage calc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51"/>
                </a:solidFill>
                <a:latin typeface="Arial"/>
              </a:rPr>
              <a:t>by mortgage-site-tool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Easy real-estate math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mortization tables comes with each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Wide range of mortgage calculat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djustable interest compounding and payment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Initial values customization for any real-estat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Simple and easy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Simple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Installation takes only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Full Cascade Style Sheet (CSS)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Software is template driven and visual style can be completely re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Multi-language enabled (at this time only English language pack comes with distrib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Customizable currency symbol and numerical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318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Want more det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41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Visit online demonstration p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8880" y="2060640"/>
            <a:ext cx="47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rtgage-site-tools.com/product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Place a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3240" y="335772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</a:rPr>
              <a:t>http://www.mortgage-site-tools.com/ord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0404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20:43:29Z</dcterms:created>
  <dc:creator/>
  <dc:description/>
  <dc:language>en-US</dc:language>
  <cp:lastModifiedBy>Ivan</cp:lastModifiedBy>
  <dcterms:modified xsi:type="dcterms:W3CDTF">2005-04-20T22:56:31Z</dcterms:modified>
  <cp:revision>4</cp:revision>
  <dc:subject/>
  <dc:title>Online mortgage calculators presentation</dc:title>
</cp:coreProperties>
</file>