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lide </a:t>
            </a:r>
            <a:fld id="{BBFADE0D-07D7-4286-A938-F9035A84F47E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Help-0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3048120"/>
            <a:ext cx="72388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94840" y="3251880"/>
            <a:ext cx="6830640" cy="963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elp” Title Slide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9:10Z</dcterms:modified>
  <cp:revision>42</cp:revision>
  <dc:subject/>
  <dc:title>Free Sample Awesome PowerPoint Background Template</dc:title>
</cp:coreProperties>
</file>